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42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7000" y="812520"/>
            <a:ext cx="5345280" cy="400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;Helvetica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;Helvetic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1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9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91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5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79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1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5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87" name=""/>
          <p:cNvSpPr/>
          <p:nvPr/>
        </p:nvSpPr>
        <p:spPr>
          <a:xfrm>
            <a:off x="1170000" y="5086440"/>
            <a:ext cx="52243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0960" y="0"/>
            <a:ext cx="449280" cy="7018200"/>
          </a:xfrm>
          <a:custGeom>
            <a:avLst/>
            <a:gdLst/>
            <a:ahLst/>
            <a:rect l="l" t="t" r="r" b="b"/>
            <a:pathLst>
              <a:path w="1251" h="19501">
                <a:moveTo>
                  <a:pt x="0" y="0"/>
                </a:moveTo>
                <a:lnTo>
                  <a:pt x="1250" y="0"/>
                </a:lnTo>
                <a:lnTo>
                  <a:pt x="1250" y="17392"/>
                </a:lnTo>
                <a:lnTo>
                  <a:pt x="0" y="1950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80"/>
              </a:gs>
              <a:gs pos="50000">
                <a:srgbClr val="e5e5e5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" name=""/>
          <p:cNvSpPr/>
          <p:nvPr/>
        </p:nvSpPr>
        <p:spPr>
          <a:xfrm>
            <a:off x="662040" y="0"/>
            <a:ext cx="449280" cy="6070680"/>
          </a:xfrm>
          <a:custGeom>
            <a:avLst/>
            <a:gdLst/>
            <a:ahLst/>
            <a:rect l="l" t="t" r="r" b="b"/>
            <a:pathLst>
              <a:path w="1251" h="16866">
                <a:moveTo>
                  <a:pt x="0" y="0"/>
                </a:moveTo>
                <a:lnTo>
                  <a:pt x="1250" y="0"/>
                </a:lnTo>
                <a:lnTo>
                  <a:pt x="1250" y="14757"/>
                </a:lnTo>
                <a:lnTo>
                  <a:pt x="0" y="1686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80"/>
              </a:gs>
              <a:gs pos="50000">
                <a:srgbClr val="e5e5e5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0"/>
            <a:ext cx="223560" cy="5311800"/>
          </a:xfrm>
          <a:custGeom>
            <a:avLst/>
            <a:gdLst/>
            <a:ahLst/>
            <a:rect l="l" t="t" r="r" b="b"/>
            <a:pathLst>
              <a:path w="626" h="14758">
                <a:moveTo>
                  <a:pt x="0" y="0"/>
                </a:moveTo>
                <a:lnTo>
                  <a:pt x="625" y="0"/>
                </a:lnTo>
                <a:lnTo>
                  <a:pt x="625" y="13176"/>
                </a:lnTo>
                <a:lnTo>
                  <a:pt x="0" y="14757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;Helvetic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;Time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Star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;Time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;Time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StarBat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;Time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50000"/>
              <a:buFont typeface="StarBat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;Time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StarBat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;Time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StarBat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;Time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QNX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85000"/>
              </a:lnSpc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 algn="ctr">
              <a:lnSpc>
                <a:spcPct val="85000"/>
              </a:lnSpc>
              <a:spcAft>
                <a:spcPts val="1412"/>
              </a:spcAft>
              <a:buClr>
                <a:srgbClr val="ff3366"/>
              </a:buClr>
              <a:buFont typeface="StarBa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ausgearbeitet von: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0" algn="ctr">
              <a:lnSpc>
                <a:spcPct val="85000"/>
              </a:lnSpc>
              <a:spcAft>
                <a:spcPts val="14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 algn="ctr">
              <a:lnSpc>
                <a:spcPct val="85000"/>
              </a:lnSpc>
              <a:spcAft>
                <a:spcPts val="1412"/>
              </a:spcAft>
              <a:buClr>
                <a:srgbClr val="ff3366"/>
              </a:buClr>
              <a:buFont typeface="StarBa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Marc Löffler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 algn="ctr">
              <a:lnSpc>
                <a:spcPct val="85000"/>
              </a:lnSpc>
              <a:spcAft>
                <a:spcPts val="1412"/>
              </a:spcAft>
              <a:buClr>
                <a:srgbClr val="ff3366"/>
              </a:buClr>
              <a:buFont typeface="StarBa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Alexander Schneider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Anwendungs-Beispiele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01760" y="1625760"/>
            <a:ext cx="7618320" cy="5684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Resume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Jahr 2000 kompatibel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flexibel einsetzbar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module zur Laufzeit einbindbar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Real-Time verhalten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stabil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auf allen möglichen Plattformen lauffähig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teuer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Inhalt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Philosophie von QNX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Kernelaufbau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Photon GUI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Anwendungsbeispiele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Resume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evtl. Vorführung des Programms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Philosophie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Was ist QNX ?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Microkernel Architektur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ein echter Kernel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System - Prozesse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Geräte - Treiber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Inter-Prozess-Kommunikation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QNX im Netzwerk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Photon GUI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GUI´s benötigen viel Ressourcen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Photon Event Space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62240" y="3206880"/>
            <a:ext cx="3941640" cy="3112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Photon GUI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Grafiktreiber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skalierbare Schriften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unterstützt Bitmap und skalierbare Schriften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Core Latin Schriftsatz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Extended Latin Schriftsatz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Mehrsprachige Unterstützung durch Unicode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Animationsunterstützung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Druck-Unterdtützung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Photon GUI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Photon Fenster Manager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voll funktionierende GUI der Desktopklasse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plaziert Regionen hinter Applikationsregionen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Widget-Bibliotheken integriert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2" marL="1143000" indent="-228600">
              <a:lnSpc>
                <a:spcPct val="85000"/>
              </a:lnSpc>
              <a:spcAft>
                <a:spcPts val="836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;Times"/>
              </a:rPr>
              <a:t>einfache GUI-Programmierung</a:t>
            </a:r>
            <a:endParaRPr b="0" lang="en-US" sz="2400" spc="-1" strike="noStrike">
              <a:solidFill>
                <a:srgbClr val="ffffff"/>
              </a:solidFill>
              <a:latin typeface="Times New Roman;Times"/>
            </a:endParaRPr>
          </a:p>
          <a:p>
            <a:pPr lvl="2" marL="1143000" indent="-228600">
              <a:lnSpc>
                <a:spcPct val="85000"/>
              </a:lnSpc>
              <a:spcAft>
                <a:spcPts val="836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;Times"/>
              </a:rPr>
              <a:t>Basis Widgets</a:t>
            </a:r>
            <a:endParaRPr b="0" lang="en-US" sz="2400" spc="-1" strike="noStrike">
              <a:solidFill>
                <a:srgbClr val="ffffff"/>
              </a:solidFill>
              <a:latin typeface="Times New Roman;Times"/>
            </a:endParaRPr>
          </a:p>
          <a:p>
            <a:pPr lvl="2" marL="1143000" indent="-228600">
              <a:lnSpc>
                <a:spcPct val="85000"/>
              </a:lnSpc>
              <a:spcAft>
                <a:spcPts val="836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;Times"/>
              </a:rPr>
              <a:t>Container Widgets</a:t>
            </a:r>
            <a:endParaRPr b="0" lang="en-US" sz="2400" spc="-1" strike="noStrike">
              <a:solidFill>
                <a:srgbClr val="ffffff"/>
              </a:solidFill>
              <a:latin typeface="Times New Roman;Times"/>
            </a:endParaRPr>
          </a:p>
          <a:p>
            <a:pPr lvl="2" marL="1143000" indent="-228600">
              <a:lnSpc>
                <a:spcPct val="85000"/>
              </a:lnSpc>
              <a:spcAft>
                <a:spcPts val="836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;Times"/>
              </a:rPr>
              <a:t>Advanced Widgets</a:t>
            </a:r>
            <a:endParaRPr b="0" lang="en-US" sz="24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es können auch eigene Widgets erstellt werden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Photon GUI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0640" y="1816200"/>
            <a:ext cx="2189160" cy="2417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19440" y="4692600"/>
            <a:ext cx="3979800" cy="1846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32480" y="1890720"/>
            <a:ext cx="43416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ier 2 Beispiele von Widgets: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s obere Bild zeigt ein Datei-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hl Widget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s untere Bild zeigt ein Druck-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swahl Dialog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ide sind aus den Advanced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Photon GUI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Zusammenfassung: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bietet Vorteile bei knappen Speicherressourcen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flexible, ausbaufähige und skalierbare Architektur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ermöglicht, die GUI an eigene Applikationen anzupassen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Photon Applikationen können von jeder virtuell verbundenen Bildschirmumgebung genutzt werden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2323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;Helvetica"/>
              </a:rPr>
              <a:t>Anwendungs-Beispiele</a:t>
            </a:r>
            <a:endParaRPr b="0" lang="en-US" sz="4400" spc="-1" strike="noStrike">
              <a:solidFill>
                <a:srgbClr val="ff0000"/>
              </a:solidFill>
              <a:latin typeface="Arial;Helvetic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12"/>
              </a:spcAft>
              <a:buClr>
                <a:srgbClr val="ffffff"/>
              </a:buClr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;Times"/>
              </a:rPr>
              <a:t>QNX ist auf allen Plattformen einsetzbar</a:t>
            </a:r>
            <a:endParaRPr b="0" lang="en-US" sz="32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Heim-PC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Navigationssystem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Palm-TOP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PDA´s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Internet-Zugang mit TV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StarBat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;Times"/>
              </a:rPr>
              <a:t>Raketen (wird bei NASA eingesetzt)</a:t>
            </a:r>
            <a:endParaRPr b="0" lang="en-US" sz="2800" spc="-1" strike="noStrike">
              <a:solidFill>
                <a:srgbClr val="ffffff"/>
              </a:solidFill>
              <a:latin typeface="Times New Roman;Time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9T07:40:47Z</dcterms:created>
  <dc:creator> </dc:creator>
  <dc:description/>
  <dc:language>en-US</dc:language>
  <cp:lastModifiedBy> </cp:lastModifiedBy>
  <cp:revision>0</cp:revision>
  <dc:subject/>
  <dc:title/>
</cp:coreProperties>
</file>