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C05B-1D44-433C-B396-25FAD028C7B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ook &amp; Fee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mindestens 3 verschiedene Aussehen (Native, Motif / CDE, Me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uf jeder Plattform gleiches ausse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iner Java-Co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ightweight Komponentenmodel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WT-Komponenten hatten sog. Heavyweight-Komponentenmodell --&gt; alle GUI-Komponenten hatten Peer-Komponenten, die in nativen Code übersetzt wu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mfangreiche Klassenbibliothe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wing hat doppelt so viele Komponenten, wie AW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Funktionsweisen der Komponenten wurden verbes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erzeit noch keine Browserunterstütz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heutige Browser unterstützen nur Java 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568-2D46-4897-85F2-B9D4365F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94F-E2C5-48E7-8232-C010F0D0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E2B-35E6-4E9E-99E1-CF5D8DAE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1835-EFC8-4531-89BE-9259D726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1CFB-CE93-400E-B0B9-3EECFBCB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0637-DA23-4EC6-BB33-63DF4AB4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90C9-6A19-4077-9BF6-A6EEBB76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998F-AFBB-4222-84C6-00D1A8D0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99FA-4C96-40B5-A10D-0BA87DBA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AA86-148D-4A5A-8E82-1CE282DC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8E8E-5AD5-4E1D-8232-5699BDD6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91B-D382-4F45-8200-4F94BEFF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2D54-BD4F-4B40-805B-12219D8C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C8C8-4BA2-43FD-9AD3-3AC8F4D3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C8E2-802A-482C-93D6-9A43C804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074A-EFC2-401F-A958-4F2ECC80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13BE-A162-439F-949F-74560F59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CF7-5893-40F9-8C8E-B9AD026D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0FB-F247-457C-ACA4-F56FA796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6F9-26E2-4B95-AB73-4DFF5C83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031-9BB1-4533-85F4-14D257A7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CF6-1502-49A7-8E04-260B8915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F3B-61BE-4C05-82EE-EBC7F4FA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61B-2D95-46F0-BEC8-5BE3170E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1677-CD58-4D37-B8BD-7EC274C73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3512-1C37-4608-8C46-960819073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Swing-Vortra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Alexander Schneid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arc Löff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Einsatzszenari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Kleingeräte (PDA, Handy, Palmto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&gt; unterstützt durch Java MicroE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Netzwerkanwendung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Online - Ba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Info - Termi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ragen ??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inführu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Codename ‚Swing‘ (JFC 1.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AWT (Advanced Window Toolk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früher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: einziges UI-Toolkit in 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heute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: ein Teil der JF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AWT war und ist nicht sonderlich schö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&gt; deshalb Swing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WT - Beispi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AWT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Swing - Beispi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swing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47676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Konzepte von Swing 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Look &amp; F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reiner Java -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ightweight Komponentenmod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e Portabilitä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lattformunabhängig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umfangreiche Klassenbiblioth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zeit nur bedingte Browserunterstütz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Konzepte von Swing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Hierarchische Strukt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lles abgeleitet von J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Swing Komponenten nahezu Äquivalent zu AW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iele vorgefertigte Funkti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Konzepte von Swing I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ätzliche Featu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änderbare Komponenten (images in Buttons und Labels 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it JEditorPane Darstellung von RTF/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astatur Mnemonics (Strg+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ool T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Standard Dialogfel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ayeredPane, SplitPane, TabbedPane, Tool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Konzepte von Swing IV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Noch zu nennende Featu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nternal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FileChooser, ColorChoo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zusätzliche Ereignisbehandlungsroutin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rag &amp; Dr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sbli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Geschwindigkeitsoptimierung (u.a. durch J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XML -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Bessere Browserunterstütz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ventuell noch mehr ‚Look &amp; Feels‘ implementie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6T05:17:07Z</dcterms:created>
  <dc:creator>Alex &amp;&amp; Marc</dc:creator>
  <dc:description/>
  <dc:language>en-US</dc:language>
  <cp:lastModifiedBy>Alex</cp:lastModifiedBy>
  <cp:lastPrinted>2000-06-12T16:35:39Z</cp:lastPrinted>
  <dcterms:modified xsi:type="dcterms:W3CDTF">2000-06-12T16:35:55Z</dcterms:modified>
  <cp:revision>9</cp:revision>
  <dc:subject>Swing</dc:subject>
  <dc:title>Swing</dc:title>
</cp:coreProperties>
</file>