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San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header&gt;</a:t>
            </a:r>
            <a:endParaRPr b="0" lang="en-US" sz="1200" spc="-1" strike="noStrike">
              <a:solidFill>
                <a:srgbClr val="000000"/>
              </a:solidFill>
              <a:latin typeface="Lucida San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date/time&gt;</a:t>
            </a:r>
            <a:endParaRPr b="0" lang="en-US" sz="1200" spc="-1" strike="noStrike">
              <a:solidFill>
                <a:srgbClr val="000000"/>
              </a:solidFill>
              <a:latin typeface="Lucida Sans"/>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ick to move the slide</a:t>
            </a:r>
            <a:endParaRPr b="0" lang="en-US" sz="2400" spc="-1" strike="noStrike">
              <a:solidFill>
                <a:srgbClr val="000000"/>
              </a:solidFill>
              <a:latin typeface="Lucida San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Click to edit the notes format</a:t>
            </a:r>
            <a:endParaRPr b="0" lang="en-US" sz="1200" spc="-1" strike="noStrike">
              <a:solidFill>
                <a:srgbClr val="000000"/>
              </a:solidFill>
              <a:latin typeface="Lucida Sans"/>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footer&gt;</a:t>
            </a:r>
            <a:endParaRPr b="0" lang="en-US" sz="1200" spc="-1" strike="noStrike">
              <a:solidFill>
                <a:srgbClr val="000000"/>
              </a:solidFill>
              <a:latin typeface="Lucida San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79CC-91ED-4061-86F7-DC55BE57FD38}" type="slidenum">
              <a:rPr b="0" lang="de-DE"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allgemeine Begriff von VLANs bedeutet, die Trennung von physischer und logischer Netzstruktur. Zunächst besteht die Notwendigkeit, die Menge der Nutzer eines LANs in Gruppen aufzuteilen. Dazu müssen Regeln geschaffen werden, mit deren Hilfe die Nutzer in die jeweiligen VLANs zugewiesen werden. Hierbei sind verschiedene Ansätze realisier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uordnung der VLANs kann auf unterschiedliche Art und Weise erfolgen. Jede Variante hat hierbei andere Auswirkungen auf das Netzdesign. Folgende Zuordnungsvarianten können hierbei gewählt werd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er Switch-Po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MAC-Adresse des angeschlossenen Endgerät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as benutzte Network-Layer Protokoll (IP, IPX, Appletalk, NetBIOS, DECNet, Banyan, Vines, etc.)</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verwendeten Anwendungen (Servic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verschiedenen Kombination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Aufbau eines VLANs erfolgt also nach unterschiedlichen Kriterien, die sich im ISO/OSI-Referenzmodell, Schichten 1-7 erstrecken. In der Regel unterscheidet man 3 verschiedene Gruppen von VLANs.</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Zu der ersten Gruppe zählen VLANs, bei denen die Zuordnung der Teilnehmer auf Basis von Ports oder MAC-Adressen erfolgt. Diese VLANs werden von den meisten Herstellern unterstütz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weite Gruppe, die auch als „Internetworking-VLANs“ bekannt sind, werden auf Basis der übergeordneten Protokolle oder logischen Netzadressen gebildet. Diese VLANs bieten mehr Funktionalität als die Gruppe 1, werden aber nur von wenigen Herstellern unterstützt und sind meist proprietär.</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VLANs der Gruppe 3 verfügen derzeit über die umfassendsten und leistungsfähigsten Eigenschaften. Üblicherweise werden diese VLANs auf Multicast-Adressen, kundenspezifisch festgelegten Definitionen oder der Anwender-Authentifikation festgeleg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Kombination dieser drei Gruppen bilden die Policy-basierenden VLANs. Diese VLAN-Typen können teilweise innerhalb der Gruppen noch weiter untergliedert werden und bieten verschiedene Leistungsmerkmale. Bei einer Netzplanung erfordern diese VLAN-Typen unterschiedlich großen Aufwan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Welche der unterschiedlichen Varianten die geeignetste ist, hängt neben den konkreten Anforderungen auch von der ausgewählten Technik ab. In den nachfolgenden Abschnitten werden die am meist verbreiteten VLAN-Typen auf ihre Merkmale untersucht.</a:t>
            </a:r>
            <a:endParaRPr b="0" lang="en-US" sz="800" spc="-1" strike="noStrike">
              <a:solidFill>
                <a:srgbClr val="000000"/>
              </a:solidFill>
              <a:latin typeface="Lucida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oder portbasierte-VLANs werden von einer Reihe von Herstellern unterstützt und werden auch im zukünftigen VLAN-Standard (IEEE 802.1Q) vorgesehen. Die Layer-1-VLANs bilden die einfachste Form von virtuellen LANs und sind bekannt seit dem Aufkommen von sogenannten Portswitching- Hubs.</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oder portbasierten VLANs gehen im Prinzip von einer starren Anweisung aus. Es ist ein geradliniges Modell, das die physischen LANs virtualisiert. Bei den portbasierten VLANs werden, wie die Bezeichnung schon andeutet, die Switch-Ports einzelnen VLANs zugewiesen. Jeder Port ist Teilnehmer von einem (oder mehreren) VLANs, so daß alle Stationen, die an diesem Port angeschlossen sind, automatisch diesem VLAN zugeordnet werden. Alle Endgeräte, die an diesem Port angeschlossen werden, gehören zum selben VLAN. Wird ein Hub an einen Port angeschlossen, so bekommen alle am Hub hängenden Endgeräte die Farbe vom entsprechenden Port, bzw. gehören zum selben VLAN. Die Anbindung von Shared-Media-Hubs mit nur einem Segment hat zur Folge, daß alle daran angeschlossenen Endgeräte sich im selben VLAN befinden. Diese Beschreibung ist zum besseren Verständnis in auf der folgenden Folie grafisch dargestell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Mit Hilfe von Layer-2 Switches werden die portbasierten VLANs aufgebaut. Dabei lernt der Switch selbständig, welche MAC-Adresse an welchem Port angeschlossen ist und damit, zu welchem VLAN sie gehört. Diese Informationen werden in einer zentralen Adreßtabelle gespeichert. Switches bieten den Vorteil, daß der Datenverkehr auf seine VLAN-Zugehörigkeit analysiert werden kann. Durchläuft ein MAC-Frame den Switch, wird neben der Destination-Adresse auch die Source-Adresse gelesen. Nun überprüft der Switch in seiner Adreßtabelle, ob die Destination-Adresse im gleichen VLAN liegt wie die Source-Adresse. Ist dies der Fall, so wird der Frame an einem entsprechenden Ausgangsport ausgegeben. Andernfalls findet der Switch entweder die Destination-Adresse nicht oder der Empfänger ist Mitglied eines anderen VLANs. Dann wird der Frame verworfen, da nur lokaler VLAN-Verkehr zugelassen wir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lassen sich in der Regel sehr leicht in bestehende Netze implementieren. Weitere Vorteile liegen auf der Hand. Die Fehlersuche wird vereinfacht, da eine direkte Zuordnung der VLANs zu den physischen Ports bekannt ist. Der Umzug einer Station an einen anderen Switchport macht unter Umständen die Umkonfiguration dieses Ports zum gewünschten VLAN erforderlich. Ein automatisierter Umzug ist daher nur eingeschränkt möglich. Die portbasierten VLANs bieten wenig Flexibilität in der Wahl des Standortes. Wenn die Mitglieder eines VLANs über mehrere Standorte verteilt sind, ist ein VLAN mit Portzuweisung wenig effektiv.</a:t>
            </a:r>
            <a:endParaRPr b="0" lang="en-US" sz="800" spc="-1" strike="noStrike">
              <a:solidFill>
                <a:srgbClr val="000000"/>
              </a:solidFill>
              <a:latin typeface="Lucida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Switch Nr.1 dient als Gebäudeverteiler und Switch Nr.2/Nr.3 dienen als Etagenverteiler. Alle Server befinden sich an einer zentralen Stelle, sie bilden einen sogenannten Server-Pool und werden direkt an den Gebäudeverteiler angeschlossen. Für dieses Teilnetz existieren drei logische VLAN-Gruppen: VLAN 1 (Farbe: schwarz), VLAN 2 (Farbe: hellgrau) und VLAN 1+2 (Farbe: dunkelgrau). Die Endgeräte (PCs und Server) werden diesen drei VLAN-Gruppen zugeteilt. Endgeräte die Mitglied von VLAN 1 und von VLAN 2 sind, gehören zum VLAN 1+2. Nach der Zuordnung der Endgeräte zu ihren VLANs (Endgeräte werden mit entsprechender Farbe markiert), müssen sie an die Switches angeschlossen werden. Jeder Teilnehmer bekommt die gleiche Farbe wie sein Switch-Port, er wird also explizit für ein VLAN zur Verfügung gestellt. Am Switch Nr.2 hängt am 1-ten Port (Farbe: schwarz) ein Hub. Alle Endgeräte die nun an diesen Hub angeschlossen werden, sind nun automatisch im selben VLAN (hier VLAN 1). Soll ein Teilnehmer mehreren VLANs zugeordnet werden, muß der Switch eine Mehrfach-VLAN-Zuordnung pro Port unterstützen. Die einfachste Form ein Endgerät verschiedenen portbasierten VLANs (VLAN 1 und VLAN 2) zuzuweisen, kann durch den Einsatz von mehreren Netzkarten realisiert werden. Diese Netzkarten werden in das entsprechende Endgerät (z.B. linker Server) eingebaut und dann auf die verschiedenen VLAN-Ports geschaltet. Somit ist der Server Mitglied von VLAN 1 und VLAN 2. Die Verbindung zwischen den Switches wird mit Hilfe eines Uplink-Ports (Farbe: weiß) realisiert. Durch dieses Feature ist es möglich, Daten von verschiedenen VLANs (VLAN 1 und VLAN 2) über eine gemeinsame Leitung zu übertragen.</a:t>
            </a:r>
            <a:endParaRPr b="0" lang="en-US" sz="800" spc="-1" strike="noStrike">
              <a:solidFill>
                <a:srgbClr val="000000"/>
              </a:solidFill>
              <a:latin typeface="Lucida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533520" y="4343400"/>
            <a:ext cx="586728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ayer-2-VLANs werden auf Basis von MAC-Adressen gebildet. Jede Station (Netzkomponente, Endgerät, etc.) hat eine MAC-Adresse. Die MAC-Adresse ist eine, auf der Adapterkarte eingestellte, nicht veränderbare, eindeutige, festverdrahtete Adresse. Ein Layer-2-VLAN besteht nun aus einer Gruppe von MAC-Adressen, die jeweils eine Broadcast Domain bilden (= VLAN). Die Zuordnung der Stationen zu einem VLAN erfolgt durch Eintragung der jeweiligen Station-MAC-Adresse in die VLAN-Tabelle.</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Wie die portbasierten VLANs werden auch die MAC-adreßbasierten VLANs in der Regel mit Hilfe von Layer-2-Switches realisiert. Verwendet werden hierfür ausschließlich Switches, welche nach Art einer Multiportbridge funktionieren. Hier gibt es zwei Möglichkeiten, Adressen zu erlernen, positiv oder negativ. „Positiv learning“ bedeutet, daß der Switch zuerst die Adresse kennen muß, bevor der Frame weitergeleitet wird. „Negativ learning“ bedeutet, daß der Switch im Zweifelsfall unknown Unicasts an alle Ports verschick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MAC-adreßbasierten VLANs sind etwas aufwendiger und schwieriger zu implementieren als die portbasierten VLANs. Ein Nachteil ist, daß in den Switches bei der Erstkonfiguration eine zusätzliche Funktion benötigt wird, damit nicht alle MAC-Adressen manuell eingetragen werden müssen. Das Problem dabei ist, daß die MAC-Adressen aus Zahlen- und Buchstabenkombinationen bestehen, die schwer zu lesen und identifizieren sind und deswegen die Gefahr besteht, daß bei der Eingabe dieser Adressen viele Fehler entstehen. Damit eine Zuordnung unternehmensweit erfolgen kann, müssen diese Informationen entweder zwischen den Switchsystemen ausgetauscht werden, oder es müssen alle Switchsysteme einzeln konfiguriert werden. Die MAC-adreßbasierten VLANs bieten den Vorteil bei Umzügen von Endgeräten. Dabei werden die Netz-Administratoren von Routinearbeiten entlastet, da die Endgeräte nach einer Umstrukturierung automatisch dem richtigen VLAN zugeordnet werden. Wird also ein Endgerät bzw. eine MAC-Adresse einmal einem VLAN zugeteilt, so ist dieses Endgerät unabhängig von ihrem physischen Standort immer Mitglied dieses VLANs. Diese Art von VLAN ist aber nur dann sinnvoll, wenn die Endgeräte bei einem Umzug, innerhalb eines Netzes, immer zum selben VLAN gehören. Untersuchungen haben ergeben, daß in deutschen Unternehmen durchschnittlich dreißig Prozent aller Stationen im Jahr verlegt werden. Dies hat zur Folge, daß die Teilnehmer aller VLANs in kurzer Zeit über alle Switchsysteme verteilt sind. In der Praxis bedeutet dies, daß alle Broadcasts an alle Systeme zu verteilen sind und das Netz unübersichtlich wird. Bei einem solchen Netzkonstrukt müssen also wesentlich höhere Anforderungen an das Netzmanagementsystem gestell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uch der Einsatz von mobilen Komponenten wie Laptops in Netzen muß bei der VLAN-Planung und VLAN-Betrieb berücksichtigt werden. Es gibt zwei Möglichkeiten, einen Laptop in ein MAC-basiertes VLAN zu integrieren. Erstens: die Laptops besitzen eine PCIMCA-Schnittstelle. An diese Schnittstelle kann eine Einschubkarte mit einer entsprechenden MAC-Adresse angeschlossen werden. Dies ist zwar eine etwas teure Anschaffung, bietet aber den Vorteil, daß der Laptop fexibel im ganzen Netz angeschlossen werden kann. Die zweite Alternative einen Laptop in ein VLAN einzubinden, ist der Einsatz von einigen Docking Stations. Das Problem dabei ist, daß die Docking Station mit dem integrierten Netzadapter (inklusive der festverdrahteten MAC-Adresse) fest an dem Desktop angeschlossen ist, während der Laptop ständig den Standort innerhalb des Netzes ändert. Wenn ein Benutzer umzieht oder einfach in einem anderen Raum den Laptop ans Netz, bzw. an ein Desktop mit einer Docking Station, anschließen möchte, so kann sich seine VLAN-Mitgliedschaft ständig verändern. Dieser Effekt ist aus Sicherheitsgründen oft nicht vertretbar. In einer derartigen Umgebung muß auch die VLAN-Zugehörigkeit des Laptops ständig an die Docking Station angepaßt werden. Dies erfordert einen zusätzlichen administrativen Aufwand.</a:t>
            </a:r>
            <a:endParaRPr b="0" lang="en-US" sz="800" spc="-1" strike="noStrike">
              <a:solidFill>
                <a:srgbClr val="000000"/>
              </a:solidFill>
              <a:latin typeface="Lucida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uordnung der Endgeräte zu den einzelnen VLANs basiert bei den Layer2-VLANs auf den MAC-Adress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1: MAC 01, MAC 03, MAC 07 und MAC 10</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2: MAC 02, MAC 04, MAC 05 und MAC 08</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1+2: MAC 61, MAC 62 und MAC 91, MAC 92 </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Endgeräte „grau“ sind Mitglied von VLAN 1 und VLAN 2. Die Mitgliedschaft mehrerer VLANs zu einem Endgerät wird ebenfalls durch den Einsatz mehrerer Netzkarten realisiert. Da die Zuordnung der Endgeräte zu einem VLAN bei den MAC-adreßbasierten VLANs völlig unabhängig von dem angeschlossenen Switchport ist, können die Endgeräte MAC 01 und MAC 02 zu verschiedenen VLANs gehören, obwohl sie an einem gemeinsamen Hub hängen.</a:t>
            </a:r>
            <a:endParaRPr b="0" lang="en-US" sz="8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837720" y="4343400"/>
            <a:ext cx="5257800" cy="4114800"/>
          </a:xfrm>
          <a:prstGeom prst="rect">
            <a:avLst/>
          </a:prstGeom>
          <a:noFill/>
          <a:ln w="0">
            <a:noFill/>
          </a:ln>
        </p:spPr>
        <p:txBody>
          <a:bodyPr lIns="90000" rIns="90000" tIns="46800" bIns="46800" anchor="t">
            <a:no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Ein interessanter Ansatz ist die VLAN-Konfiguration auf Basis der Ebene 3 Adressen. Diese Strukturen werden auch als Layer-3-VLANs bezeichnet. Hier besteht die Möglichkeit, Subnetzstrukturen (z.B. IP-, IPX-Subnetze) zu virtualisier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urch die Zuordnung der Netzadresse eines Endgerätes zu einer Gruppe entsteht die Bildung der Layer-3-VLANs. Es gibt mehrere Kriterien nach denen man VLANs bilden kann:</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nach Art der Layer-3-Protokolle: IP-, IPX-VLAN, etc. Dabei befinden sich nur Anwender, die das gleiche Protokoll (z.B. IP, IPX) benutzen, in einem gemeinsamen VLAN.</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nach der Subnetzbildung: z.B. IP-Subnetze. Alle Benutzer die im gleichen Subnetz angeschlossen sind, gehören auch zum selben VLA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urch die Bildung von Subnetzstrukturen kann eine Trennung von logischer Struktur (Subnetz) und topographischer Lokalität (Routerport) erreicht werd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Voraussetzung für den Einsatz von Layer-3-VLANs ist die entsprechende HW. Der Begriff, des Layer-3-VLANs ist eng mit den sogenannten Layer-3-Switches3 verbunden. Diese sollen auf Kosten der Komplexität schneller sein als herkömmliche Backbone-Router. Ein wesentlicher Schritt, dieses zu ermöglichen ist das Abspecken der Protokollvielfalt. Traditionelle (Backbone)-Router unterstützen sehr viele unterschiedliche Protokolle. Neben den meistverbreiteten (LAN)- Protokollen IP und IPX werden auch Protokolle wie DecNet, AppleTalk, OSI, XNS und Banyan Vines unterstützt. Hinzu kommen bei herkömmlichen Routern WAN-Protokolle bzw. -Schnittstellen. Layer-3 Switches beschränken sich häufig auf IP und IPX. Auch bei den möglichen Routingprotokollen wird gespart. So fallen z.B. bei IP neben BGP auch häufig OSPF und RIP-II weg. Layer-3 Switches müssen genauso wie herkömmliche Router in der Lage sein, die Protokollinformationen der Frames auszuwerten und die Frames an den entsprechenden Ports auszugeben. Dazu müssen sie die Netzadresse erkennen und mit einem bestimmten VLAN verbinden. Sie benötigen eine erweiterte Adreßtabelle, in der die Zuordnungen von Netzadresse (Port) MAC-Adresse vorhanden sind. Der Inter-VLAN-Verkehr wird weiterhin über den Router transportiert. Einige Hersteller bieten Layer-3-Switches an, die die Protokollinformationen auswerten können und selbst routen. Aus Sicherheitsgründen sollte ein Layer-3-VLAN, der über mehrere Standorte gebildet wurde, immer über einen Router gekoppelt sein. Layer-3 VLANs bzw. Layer-3 Switches erlauben allerdings auch Ergänzungen zu den gängigen Konfigurationsmöglichkeiten von Routern. So ist neben dem bekannten Multinetting auch die Verteilung eines Subnetzes auf mehrere Ports möglich. Damit ist eine größere Freiheit bei der Konfiguration möglich und es können Subnetz-Adressen weit besser ausgenutzt werd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ie protokollbasierenden VLANs ermöglichen eine optimale Verkehrsüberwachung. Alle Broadcasts können entsprechend der Protokolle segmentiert werden. Auch Stationen mit Multiprotokoll-Stacks bzw. Shared-Media-Segmente mit Stationen unterschiedlicher Protokolle werden bei diesem Verfahren unterstützt. Ein IP-VLAN ist in diesem Sinne ein Subnetz und steht für viele Benutzer zur Verfügung. Soll ein neuer Benutzer eingerichtet werden, so ist durch seine Subnetzzugehörigkeit auch automatisch die VLAN-Zugehörigkeit gegeben. Bei Umzügen wird der Netzadministrator wesentlich entlastet, da die Endgeräte automatisch wieder dem gleichen VLAN angehören. Layer-3-VLANs sind dann sinnvoll einzusetzen, wenn die Endgeräte eines Netzes an wechselnden Standorten betrieben werden und die Zugehörigkeit zum VLAN nicht abhängig von der eingesetzten HW (Netzkarten) und dem Standort ist. Bevor Layer-3-VLANs implementiert werden, ist eine gründliche Planung wichtig. Man benötigt Informationen über:</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das derzeitige Netz,</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Verkehrsbeziehungen im Netz,</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eingesetzte Protokolle,</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mögliche Reduzierung der Protokollvielfalt, etc. </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Nachteilig ist die größere Komplexität des Modells, die einen höheren Administrationsaufwand erfordert. Vom Administrator werden detaillierte Kenntnisse über die eingesetzten Protokolle verlangt. Die Layer-3-VLANs bieten in der Regel sehr sichere Strukturen. Das einzige Problem liegt in der Handhabung von Layer-3-Adressen. So lassen sich z.B. die IP-Adressen sehr leicht mit einer entsprechenden SW (z.B. Windows) verändern. Damit können die Anwender ihre Netz-Adresse in eine andere umwandeln und dadurch ihre VLAN-Zugehörigkeit verändern. Um einen solchen Mißbrauch zu verhindern, müssen die Netzadministratoren entsprechende Vorkehrungen treffen. Die Konfiguration der Endgeräte sollte auf jeden Fall nur von den Netzverantwortlichen gemacht werden. Die Gruppierung der Endgeräte nach ihren Subnetzen sollte nicht veröffentlicht werden, da u.U. ein Angriff, (Veränderung der eigenen Netz-Adressen) nicht auszuschließen ist.</a:t>
            </a:r>
            <a:endParaRPr b="0" lang="en-US" sz="600" spc="-1" strike="noStrike">
              <a:solidFill>
                <a:srgbClr val="000000"/>
              </a:solidFill>
              <a:latin typeface="Lucida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netz 1 (129.0.1) entspricht VLAN 1 (Farbe: schwarz)</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netz 2 (129.0.2) entspricht VLAN 2 (Farbe: hellgrau)</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e Endgeräte bzw. Benutzer mit der gleichen Subnetz-Adresse gehören automatisch zu einem VLAN.</a:t>
            </a:r>
            <a:endParaRPr b="0" lang="en-US" sz="8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olicy-basierende VLANs verwenden logische Zuordnungen (Port, MAC, Protokoll, Netzadresse). Sie sind die flexibelste Form, Endgeräte zu einer Gruppe zusammenzufass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Endgeräte können aufgrund ihrer Portzugehörigkeit, ihrer MAC-Adresse oder der IP-Adresse einem VLAN zugeordnet werden. Auch eine Kombination dieser Möglichkeiten können ein VLAN definier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e Art, VLANs zu definieren, ist das Zusammenfassen von bestimmten Protokollen. In einem heterogenen Netz, bestehend aus UNIX, DEC, SNA, Novell, NT, etc. gibt es die Möglichkeit, diese jeweils zu einem VLAN zu konfigurieren und somit die Protokolle strikt voneinander zu trenn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 Vorteil dieses Verfahrens ist, daß dieses VLAN-Modell alle vorherigen Modelle nachbilden und kombinieren kann. Der Administrator kann das Verhältnis zwischen Sicherheit, Verkehrsoptimierung und Kontrolle selbst bestimmen. Ein Nachteil ist, daß die Administration sehr komplex wird und nur von erfahrenen Administratoren geleistet werden kann. Die eingeschränkte Verfügbarkeit stellt weitere Nachteile dar.</a:t>
            </a:r>
            <a:endParaRPr b="0" lang="en-US" sz="8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as Netz ist in drei VLANs aufgeteilt. Die Endgeräte aus diesen drei OE werden durch Kombination aus Layer-1,-2,-3-VLANs gebilde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LAN 1: IP-Adresse 129.0.1.11, MAC-Adressen MAC 2, MAC 4 und die Zuordnung zu einem Po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LAN 2: MAC-Adresse MAC 1, MAC 3, IP-Adressen 129.0.2.11, 129.0.2.10 und die Zuordnung zu einem Port</a:t>
            </a:r>
            <a:endParaRPr b="0" lang="en-US" sz="800" spc="-1" strike="noStrike">
              <a:solidFill>
                <a:srgbClr val="000000"/>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762120" y="4343400"/>
            <a:ext cx="5333760" cy="4114800"/>
          </a:xfrm>
          <a:prstGeom prst="rect">
            <a:avLst/>
          </a:prstGeom>
          <a:noFill/>
          <a:ln w="0">
            <a:noFill/>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Um nun die oben definierten VLAN-Techniken in ein unternehmensweites LAN einzuführen, müssen noch einige Bedingungen erfüllt sein, um eine schnelle und erfolgreiche Umsetzung dieser virtuellen Strukturen zu gewährleisten. In einem unternehmensweiten LAN müssen alle Einzelsysteme in das Gesamtsystem integriert und aufeinander abgestimmt werden. Neben der Anpassung der Einzelsysteme in das Gesamtsystem gehören auch die möglichen Verfahren, die zur Übertragung der VLAN-Informationen zwischen den Koppelungselementen notwendig sind.</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r Untersuchung der Koppelverbindung zwischen den Switchsystemen wird zwischen paketbasierenden Protokollen (z.B. Ethernet) oder zellbasierenden Protokollen (z.B. ATM) unterschieden. Bei beiden Verfahren kann jeder Hersteller selbstverständlich ein proprietäres Verfahren implementieren, das den Informationsaustausch innerhalb der VLANs konkret beschreibt. Aber eine proprietäre Implementierung geht natürlich auf Kosten der Interoperabilität, die in der Zeit der heterogenen Netze immer wichtiger wird. Deswegen sind in diesem Zusammenhang standardisierte Verfahren notwendig. Diese Verfahrenstechniken sind notwendig, damit erstens jedes VLAN in das Gesamtsystem integriert werden kann und zweitens jedes Einzelgerät zu einem VLAN zugeordnet werden kann. Genau diese Informationen müssen über das gesamte Netz, über alle Transitsysteme, bekannt sei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Der Austausch von Adreßtabellen über die Transitsysteme hinweg, ist eine mögliche Verfahrenstechnik bei der Übertragung von VLAN-Informationen. Abhängig von der eingesetzten VLAN-Technik (Layer-1-VLANs oder Layer2-VLANs) gibt es Unterschiede in der Informationsverteilung. Der Informationsaustausch findet jeweils zwischen den Switches statt. Dazu ist es notwendig, daß die Adreßtabellen (MAC-Adresse / Port) im Switch um entsprechende VLAN-Informationen (VLAN-ID) erweitert werden. Diese erweiterte Adreßtabelle gibt Auskunft über eine genaue Zuordnung der MAC-Adresse bzw. des Switch-Ports zu ihrem VLA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n portbasierten VLANs bestimmt der Switch-Port, zu welchem VLAN das angeschlossene Endgerät (MAC-Adresse) zugeteilt wird. Aufgrund der ständigen Veränderung (Umkonfiguration und Neukonfiguration der Ports) der Adreßtabelle eines Switches, müssen dann auch die anderen Switches informiert werden, damit jeder Frame auch weiterhin einem VLAN eindeutig zugeteilt werden kann. Für die permanente Aktualisierung der Adreßtabelle gibt es mehrere Lösungen: die gesamte Adreßtabelle wird in bestimmten Intervallen an die anderen Switches im Netz gesendet oder nur Teile ( Änderungen) der Adreßtabelle werden in kurzen Abschnitten an die anderen Switches weitergegebe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n MAC-basierten VLANs bestimmt die MAC-Adresse die Zugehörigkeit zu einem VLAN. D.h. alle MAC-Adressen müssen erfaßt und in die Adreßtabelle eingetragen werden. Die Adreßtabelle wird dann manuell um die VLAN-ID erweitert. Die vollständige Konfigurationstabelle wird an alle Switches im Netz gesendet. Bei der Auswertung eines Datenframes (Zugehörigkeit MAC-Adresse / VLAN / Ausgangsport) benötigt man einen effizienten Suchalgorithmus, um die Verzögerungszeiten möglichst klein zu halten. Eine optimale Lösung bietet so eine erweiterte Adreßtabelle, die die Konfigurationstabelle als Referenz nutzt. Bei dieser Methode wird nach dem Erkennen einer neuen Source-Adresse die entsprechende VLAN-Zugehörigkeit in der zentralen Konfigurationstabelle abgefragt und in die dynamische Tabelle (Aging) des Switches eingetragen. So können die Frames mit Hilfe einer zentralen Tabelle (Konfigurationstabelle) im Switch abgearbeitet werden. Wird nun diese Tabelle verändert, wird die VLAN-Zugehörigkeit in den Switch-Tabellen automatisch angepaßt.</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Zu beachten ist weiterhin, daß der Austausch der Tabellen zwischen den Switches synchronisiert werden muß, damit die Empfänger auch wissen, wann neue Informationen bereitstehen. Der Adreßaustausch findet nur zwischen Switches statt. Existiert nun ein Router im bestehenden Netz, so dient er nur zum Datentransport zwischen den Segmenten auf Ebene 3. D.h. Router können keine VLAN-Zugehörigkeit überprüfen.</a:t>
            </a:r>
            <a:endParaRPr b="0" lang="en-US" sz="700" spc="-1" strike="noStrike">
              <a:solidFill>
                <a:srgbClr val="000000"/>
              </a:solidFill>
              <a:latin typeface="Lucida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e zweite Verfahrenstechnik ist das Tagging, welches es ermöglicht, VLAN-Informationen innerhalb der Datenframes auf Layer-2 (MAC-Ebene) zu übertragen. Die Arbeitsgruppe IEEE 802.1Q beschäftigt sich mit dem Thema Frame-Tagging. Es ist ihnen gelungen einige wichtige Punkte zusammenzufassen, um in der heutigen heterogenen LAN-Welt eine kompatible und interoperable Lösung zu ermöglichen. Diese laut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Unterstützung der bestehenden IEEE 802.X MAC-Servic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ine Erweiterung des Quality of Service (IEEE 802.1P)</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Beschränkung in der ersten Form auf portbasierte VLAN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in Spanning Tree pro VLA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Unterstützung von Token Ring-basierten Struktur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iesem Verfahren werden die MAC-Frames nach IEEE 802.1Q „Tagging Verfahren“ mit einem zusätzlichen Tag erweitert. Die Platzierung dieses Tags innerhalb des Headers muß an einer bestimmten Stelle (Bit) stehen, damit die Systeme diese VLAN-Informationen auch finden und auswerten können. Abhängig von den eingesetzten Protokollen (Ethernet, Token Ring, FDDI) wird das Tag an unterschiedlicher Stelle platziert. Die Tag-Informationen werden in zwei Teilbereiche gegliede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SVPID (8 Bytes) bedeutet SNAP5 encoded VLAN Protocol Identifier</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ID (2 Bytes) bedeutet VLAN-Identifier</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VLAN-Tag-Information eines Frames wird in den Switches erzeugt bzw. entfernt. Dies wird folgendermaßen ablaufen: wird ein Datenframe an einem Switch-Port eingelesen, so kann der Switch anhand des Ports oder MAC-Adresse, oder Layer-3-Adresse des Senders erkennen, zu welchem VLAN der Frame gehört. Der Ethernet-Frame wird um die ermittelte VLAN-Information (VLAN-Tag) ergänzt und anschließend am Backboneport ausgegeben. Dieser erweiterte Frame wird so von Switch zu Switch gesendet bis er am Zielswitch angekommen ist. Da findet eine Überprüfung statt, ob die MAC-Adresse des Empfängers sich im selben VLAN befindet, wie die im Tag-Feld gespeicherte Information. Stimmt diese überein, so wird das Tag-Feld entfernt und der Frame am Ausgangsport an den Empfänger gesendet. Sind Sender um Empfänger aber nicht im selben VLAN, kann der Frame nicht weitergeleitet werden. Durch die eindeutige Kennzeichnung der zu sendenden Frames gelangen die VLAN-Informationen schnell und ohne großen Overhead an die betreffenden Systeme. Bei diesem Verfahren benötigt man auch keine zusätzliche Synchronisierungsmechanismen.</a:t>
            </a:r>
            <a:endParaRPr b="0" lang="en-US" sz="800" spc="-1" strike="noStrike">
              <a:solidFill>
                <a:srgbClr val="000000"/>
              </a:solidFill>
              <a:latin typeface="Lucida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Neben dem administrativen Aufwand beim Einsatz von VLANs ist die Sicherheit, die durch die eingesetzte Technik gegeben ist, auch eine wichtige Anforderung, die erfüllt sein muß. Unter Sicherheit versteht man hier die Zugangssicherheit zu fremden Netzen, VLANs und Abhörsicherheit von fremden Dat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en portbasierten VLANs ist zu bedenken, daß jede Station, die an einem Port angeschlossen ist, immer automatisch dem entsprechenden VLAN angehört. Beim Einsatz von mobilen Systemen (Laptops) kann diese Technik eine gewisse Sicherheitslücke aufweisen, da nicht berechtigte VLAN-Teilnehmer durch einfaches anschließen des Laptops an eine Dose automatisch in dem virtuellen Netz sind, die durch den Port des Switches definiert ist. Aber wenn bestimmte Randbedingungen erfüllt sind, können auch die niedrigen Sicherheitsmechanismen überwunden werden. Folgende Randbedingungen müssen erfüllt sei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Zutritt zu den Räumen mit VLAN-Anschlußdosen darf nur berechtigten Personen gegeben sei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Zusätzliche Authentifikation des VLAN-Benutzers (Passwort) ist sinnvoll.</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Jedes VLAN hat einen Netzverantwortlichen, der als einziger berechtigt ist, Änderungen vorzunehm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er Netzverantwortliche muß eine genaue Liste führen, welche Teilnehmer Zugang zu den aktiven Ports haben und diese Berechtigung auch regelmäßig überprüfen. Dies kann eventuell mit Hilfe geeigneter Netzmanagement-Tools automatisier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urch Einhaltung dieser Randbedingungen können sichere Strukturen aufgebaut werden.</a:t>
            </a:r>
            <a:endParaRPr b="0" lang="en-US" sz="800" spc="-1" strike="noStrike">
              <a:solidFill>
                <a:srgbClr val="000000"/>
              </a:solidFill>
              <a:latin typeface="Lucida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en MAC-basierten VLANs entscheidet der Switch und nicht die Anschlußdose, zu welchem VLAN jeder empfangene Frame gehört. Anhand der MAC-Adresse wird entschieden, ob der Frame weitergeleitet wird oder nicht. Ein geübter Anwender kann sein Endgerät durch Umkonfiguration mit einer anderen MAC-Adresse ausrüsten und damit unmittelbar mit einem anderen VLAN kommunizieren. Auch hier müssen weitere Sicherheitsmechanismen eingeführt werden. Z.B. Änderungen werden sofort beim Netzverantwortlichen gemeldet. Neue, noch nicht konfigurierte MAC-Adressen werden automatisch einem „Default VLAN“ (VLAN mit minimalen Rechten) zugeordnet, oder sie werden abgewiesen. In beiden Fällen bekommt der Netzadministrator sofort eine Meldung. Die MAC-Adressen können nur durch den Austausch oder mit Hilfe einer zusätzlichen Adapterkarte verändert werden, die aber in der Regel von den Netzverantwortlichen ausgetauscht werden.</a:t>
            </a:r>
            <a:endParaRPr b="0" lang="en-US" sz="800" spc="-1" strike="noStrike">
              <a:solidFill>
                <a:srgbClr val="000000"/>
              </a:solidFill>
              <a:latin typeface="Lucida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Ähnlich wie bei den MAC-basierten VLANs entscheidet bei den IP-basierten VLANs der Switch, zu welchem VLAN das IP-Paket gehört. DHCP als dynamisches Verfahren ermöglicht eine dynamische Adreßzuordnung. Somit kann zu jedem Zeitpunkt die aktuelle IP-Adreß-Tabelle ermittelt werden. Da die IP-Adressen sehr leicht verändert werden können, müssen hier besondere Vorsichtsmaßnahmen getroffen werden. Erstens darf ein Neueintrag nur vom Netzverantwortlichen selbst vorgenommen werden und zweitens sollte jede nicht genehmigte IP-Adresse, die über DHCP erfaßt wird, sofort vom System gemeldet und einem „Default VLAN“ zugewiesen werden.</a:t>
            </a:r>
            <a:endParaRPr b="0" lang="en-US" sz="800" spc="-1" strike="noStrike">
              <a:solidFill>
                <a:srgbClr val="000000"/>
              </a:solidFill>
              <a:latin typeface="Lucida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s der Tabelle kann man entnehmen, dass die Vorteile der Layer-1- und Layer-2-VLAN aufgrund der Sicherheit überwiegen. Der Einsatz von höheren VLAN-Philosophien setzt den Einsatz von modernen Komponenten voraus. Außerdem sollte man bei der Erstinstallation schrittweise vorgehen. Man muss dabei beachten, dass sich die Netze nicht einfach mal eine Zeit abschalten lassen, sondern dass die Netzunterbrechungen so kurz wie möglich gehalten werden müssen. Dies wird besonders deutlich sieht man die entstehenden Kosten, für eine kurze Abschaltung bei einem Produktionsnetz. Es ist also meist keine Planung und Installation auf der „ grünen Wiese“ möglich. Der Aufwand und das Risiko bei der Erstinstallation von VLANs muss auf ein Minimum reduziert werden, um den laufenden Betrieb nicht zu stören.</a:t>
            </a:r>
            <a:endParaRPr b="0" lang="en-US" sz="800" spc="-1" strike="noStrike">
              <a:solidFill>
                <a:srgbClr val="000000"/>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r Begriff, des VLANs ist schon seit einigen Jahren bekannt. Es wird viel über dieses Thema gesprochen und geschrieben und VLANs fehlen auch in keiner Produktbeschreibung der großen Komponentenhersteller. Aber was ist nun ein VLAN wirklich?</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r Begriff VLAN (virtuelles lokales Netz) steht für die Trennung von physischer und logischer Netzstruktur. D.h. die virtuellen Netze erlauben es, die physische Struktur des Netzes und seine Systeme von der organisatorischen Zugehörigkeit der Mitarbeiter (und damit von der \logischen" Netzstruktur) zu trennen. Die Netzbenutzer bilden nicht mehr aufgrund ihres gemeinsamen Standortes eine Netzgruppe, sondern sie können mit den Kollegen zu einer Gruppe zusammengefasst werden, mit denen sie tatsächlich zusammenarbeiten. Die Endgeräte der Benutzer werden zu logischen Gruppen zusammengefasst, unabhängig von ihrem physischen Standort, und können miteinander kommunizieren als ob sie zum selben LAN gehören. Damit kann die Orts-Beziehung zwischen aktiven und passiven Komponenten aufgelöst oder - von höherer Ebene aus betrachtet - eine freiere Zuordnung von Benutzern zu Netzressourcen vorgenomm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e Gründe für den Zusammenschluss zu einer Interessensgruppe können organisatorischer oder technischer Art sein. Unter dem Aspekt der Unternehmensorganisation ist es z.B. möglich, alle Mitarbeiter einer Abteilung in eine Netzgruppe zusammenzufassen, auch wenn sie auf verschiedenen Etagen verteilt sind. Unter dem Aspekt der Arbeitsorganisation können Mitarbeiter, die gemeinsam an einem Projekt arbeiten, zu einer Netzgruppe zusammengefasst werden, auch wenn sie zu verschiedenen Abteilungen gehören. Unter Performance-Aspekten können Mitarbeiter, die besondere Anforderungen an die Bandbreite oder Quality-of-Service (QoS) stellen, zu einer Netzgruppe zusammenfassen. Diese Anforderungen können mit Hilfe von virtuellen Netzen realisier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rch die Zuordnung der Endgeräte zu logischen Gruppen ( VLANs) beschränkt sich der Datenverkehr eines logischen Netzes auf eine Broadcastdomain. Jedes VLAN bildet also eine eigene, unabhängige Broadcastdomain, in der Teilnehmer über geswitchte Strukturen auf Ebene 2 gekoppelt werden. Die Kommunikation zwischen Teilnehmer unterschiedlicher VLANs erfolgt über Router auf Ebene 3.</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den die Mitglieder eines VLANs über mehrer Switches verteilt, so steigt in der Praxis der Datenverkehr zwischen den Komponenten erheblich. Aus diesem Grund muss in dem Konzept der Switches die Möglichkeit einer adäquaten Backbone-Skalierbarkeit und der Broadcast-Reduzierung integriert sein. </a:t>
            </a:r>
            <a:endParaRPr b="0" lang="en-US" sz="8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n Switch ist im Grunde eine Multiport-Bridge. Der Name Switch kommt von der Firma Kalpana, deren Multiport-Bridges nicht dem IEEE Standard entsprachen und die Firma deshalb ihre Produkte nicht Bridge nennen durfte. Also entschied man sich bei Kalpana für den Namen Switch. Da Kalpana ein sehr erfolgreiches Marketing hatte, und der Name Switch nach Tempo klang nannten darauf auch andere Hersteller ihre Produkte Switch. Switches brechen die Ethernet-Busstruktur in eine Bus – Sternstruktur auf. Teilsegmente mit Busstruktur werden sternförmig über je einen Port des Switches gekoppelt. Wesentliche ist die Fähigkeit von Switches, mehrere Übertragungen zwischen unterschiedlichen Teilsegmenten gleichzeitig durchzuführen. Dadurch erhöht sich die Bandbreite des gesamten Netzes entsprechen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witches sind Netzkomponenten die auf der Schicht 2 des ISO/OSI Referenzmodells arbeiten. Sie werden eingesetzt für eine schnelle und effiziente Koppelung zwischen mehreren LAN-Teilnetzen. Auf der Schicht 2 wird mit MAC-Adressen gearbeitet. Grundsätzlich kann die Arbeitsweise von einem Switch mit der einer Transparent Bridge incl. Spanning Tree (im Ethernetbereich) oder Source Route Bridge (für Token Ring Netze) verglich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witches bieten den Vorteil den Verkehr zu separieren. Sie erkennen, ob es sich bei einem Datenpaket um teilnetz-übergreifenden oder teilnetzlokalen Verkehr handelt. Dementsprechend wird das Paket weitergeleitet oder nicht. Um diese Entscheidung treffen zu können muss ein Switch „lernen", welche MAC-Adresse zu welchem Teilnetz gehört. Jeder Switch führt eine Adresstabelle, in der jede MAC-Adresse und der dazugehörige Ausgangsport gespeichert ist. Hierzu liest der Switch zu jedem an einem Port eingegangenen Frame die Source-Adresse ein und -überprüft, ob diese in der Adresstabelle schon gespeichert ist. Wenn nein, merkt sich der Switch an welchem Port der Frame eingegangen ist und speichert die Information: MAC-Adresse - Port. Somit kann zu einem späteren Zeitpunkt die Zuordnung Destination-Adresse und Ausgangsport jederzeit abgefragt und zur Entscheidung der Weiterleitung herangezog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nnerhalb eines Switches gibt es verschiedene Verarbeitungsmechanismen: „Cut-Through“ und „Store-and-Forward"-Switching.</a:t>
            </a:r>
            <a:endParaRPr b="0" lang="en-US" sz="900" spc="-1" strike="noStrike">
              <a:solidFill>
                <a:srgbClr val="000000"/>
              </a:solidFill>
              <a:latin typeface="Lucida San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a:lnSpc>
                <a:spcPct val="10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Cut Through-Switching:</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Cut Through-Switching wird die Zieladresse DA (ersten 6 Bytes) und die Sourceadresse des MAC-Frames ausgelesen und in der gespeicherten Adresstabelle die Zuordnung dieser Zieladresse zu dem entsprechenden Ausgangsport bestimmt. Danach werden die Datenpakete, ohne weitere Überprüfung und z.T. noch bevor das letzte Bit des Frames eingegangen ist, an den Ausgangsport weitergeleitet. Eine Überprüfung des CRC- Feldes kann hier nicht stattfinden. Dadurch erhält man zwar kurze Verzögerungszeiten, aber fehlerhafte Frames werden ebenso weitergeleitet.</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Cut-Through-Switching gibt es 2 Varianten. Fast-forward und fragment-free. Bei fast-forward wird nur die Destination und die Sourceadresse gelesen und dann eine direkte Verbindung der Ports hergestellt. Beim fragment-free werden die ersten 64 Byte des „Data Feldes“ noch gelesen um sicherzugehen, dass es sich nicht um einen „Zwerg“ handelt, da ein fehlerfreies Packet mindestens 64 Byte Daten enthalten muss.</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a:lnSpc>
                <a:spcPct val="10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Store and Forward-Switching:</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Store and Forward-Switching wird dagegen der gesamte MAC-Frame eingelesen und zwischengespeichert, um zunächst alle Steuerinformationen interpretieren zu können. Durch das Einlesen des kompletten Frames können Bitfehler identifiziert und damit fehlerhafte Frames verworfen werden. Dieser Mechanismus hat in der Regel eine längere Verzögerungszeit zur Folge. Store and Forward-Switching ist immer dann notwendig, wenn ein Sicherheitsscheck durchgeführt werden soll, oder unterschiedliche Geschwindigkeiten (z.B. 10 Mbit/s zu 100 Mbit/s) angeglichen werden müssen.</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Heutzutage können Switches automatisch zwischen Cut-Through und Store-and-forward umschalten. Dies geschieht dann z.B. anhand der CRC-Fehlerhäufigkeit.</a:t>
            </a:r>
            <a:endParaRPr b="0" lang="en-US" sz="900" spc="-1" strike="noStrike">
              <a:solidFill>
                <a:srgbClr val="000000"/>
              </a:solidFill>
              <a:latin typeface="Lucida San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m virtuelle Strukturen in einem unternehmensweiten LAN einzuführen, müssen weitere Bedingungen erfüllt sein, um einen reibungslosen, schnellen und erfolgreichen Datenverkehr zu ermöglichen. Dabei ist zu beachten, dass sich die Anforderungen nicht mehr nur auf Einzelsysteme beziehen, sondern auf das Zusammenspiel mit anderen Geräten im Netz. Die Switches müssen miteinander kommunizieren und Informationen austauschen, um einen korrekten Datenverkehr in einem VLAN zu gewährleisten.</a:t>
            </a:r>
            <a:endParaRPr b="0" lang="en-US" sz="800" spc="-1" strike="noStrike">
              <a:solidFill>
                <a:srgbClr val="000000"/>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4" name="PlaceHolder 2"/>
          <p:cNvSpPr>
            <a:spLocks noGrp="1"/>
          </p:cNvSpPr>
          <p:nvPr>
            <p:ph/>
          </p:nvPr>
        </p:nvSpPr>
        <p:spPr>
          <a:xfrm>
            <a:off x="533160" y="76176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5" name="PlaceHolder 3"/>
          <p:cNvSpPr>
            <a:spLocks noGrp="1"/>
          </p:cNvSpPr>
          <p:nvPr>
            <p:ph/>
          </p:nvPr>
        </p:nvSpPr>
        <p:spPr>
          <a:xfrm>
            <a:off x="533160" y="342864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8"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9" name="PlaceHolder 4"/>
          <p:cNvSpPr>
            <a:spLocks noGrp="1"/>
          </p:cNvSpPr>
          <p:nvPr>
            <p:ph/>
          </p:nvPr>
        </p:nvSpPr>
        <p:spPr>
          <a:xfrm>
            <a:off x="53316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0" name="PlaceHolder 5"/>
          <p:cNvSpPr>
            <a:spLocks noGrp="1"/>
          </p:cNvSpPr>
          <p:nvPr>
            <p:ph/>
          </p:nvPr>
        </p:nvSpPr>
        <p:spPr>
          <a:xfrm>
            <a:off x="463284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 name="PlaceHolder 2"/>
          <p:cNvSpPr>
            <a:spLocks noGrp="1"/>
          </p:cNvSpPr>
          <p:nvPr>
            <p:ph/>
          </p:nvPr>
        </p:nvSpPr>
        <p:spPr>
          <a:xfrm>
            <a:off x="5331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3" name="PlaceHolder 3"/>
          <p:cNvSpPr>
            <a:spLocks noGrp="1"/>
          </p:cNvSpPr>
          <p:nvPr>
            <p:ph/>
          </p:nvPr>
        </p:nvSpPr>
        <p:spPr>
          <a:xfrm>
            <a:off x="32385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4" name="PlaceHolder 4"/>
          <p:cNvSpPr>
            <a:spLocks noGrp="1"/>
          </p:cNvSpPr>
          <p:nvPr>
            <p:ph/>
          </p:nvPr>
        </p:nvSpPr>
        <p:spPr>
          <a:xfrm>
            <a:off x="59439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5" name="PlaceHolder 5"/>
          <p:cNvSpPr>
            <a:spLocks noGrp="1"/>
          </p:cNvSpPr>
          <p:nvPr>
            <p:ph/>
          </p:nvPr>
        </p:nvSpPr>
        <p:spPr>
          <a:xfrm>
            <a:off x="5331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6" name="PlaceHolder 6"/>
          <p:cNvSpPr>
            <a:spLocks noGrp="1"/>
          </p:cNvSpPr>
          <p:nvPr>
            <p:ph/>
          </p:nvPr>
        </p:nvSpPr>
        <p:spPr>
          <a:xfrm>
            <a:off x="32385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7" name="PlaceHolder 7"/>
          <p:cNvSpPr>
            <a:spLocks noGrp="1"/>
          </p:cNvSpPr>
          <p:nvPr>
            <p:ph/>
          </p:nvPr>
        </p:nvSpPr>
        <p:spPr>
          <a:xfrm>
            <a:off x="59439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 name="PlaceHolder 2"/>
          <p:cNvSpPr>
            <a:spLocks noGrp="1"/>
          </p:cNvSpPr>
          <p:nvPr>
            <p:ph type="subTitle"/>
          </p:nvPr>
        </p:nvSpPr>
        <p:spPr>
          <a:xfrm>
            <a:off x="533160" y="761760"/>
            <a:ext cx="8001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 name="PlaceHolder 2"/>
          <p:cNvSpPr>
            <a:spLocks noGrp="1"/>
          </p:cNvSpPr>
          <p:nvPr>
            <p:ph/>
          </p:nvPr>
        </p:nvSpPr>
        <p:spPr>
          <a:xfrm>
            <a:off x="533160" y="761760"/>
            <a:ext cx="8001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 name="PlaceHolder 2"/>
          <p:cNvSpPr>
            <a:spLocks noGrp="1"/>
          </p:cNvSpPr>
          <p:nvPr>
            <p:ph/>
          </p:nvPr>
        </p:nvSpPr>
        <p:spPr>
          <a:xfrm>
            <a:off x="53316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8" name="PlaceHolder 3"/>
          <p:cNvSpPr>
            <a:spLocks noGrp="1"/>
          </p:cNvSpPr>
          <p:nvPr>
            <p:ph/>
          </p:nvPr>
        </p:nvSpPr>
        <p:spPr>
          <a:xfrm>
            <a:off x="463284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2286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3" name="PlaceHolder 3"/>
          <p:cNvSpPr>
            <a:spLocks noGrp="1"/>
          </p:cNvSpPr>
          <p:nvPr>
            <p:ph/>
          </p:nvPr>
        </p:nvSpPr>
        <p:spPr>
          <a:xfrm>
            <a:off x="463284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4" name="PlaceHolder 4"/>
          <p:cNvSpPr>
            <a:spLocks noGrp="1"/>
          </p:cNvSpPr>
          <p:nvPr>
            <p:ph/>
          </p:nvPr>
        </p:nvSpPr>
        <p:spPr>
          <a:xfrm>
            <a:off x="53316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6" name="PlaceHolder 2"/>
          <p:cNvSpPr>
            <a:spLocks noGrp="1"/>
          </p:cNvSpPr>
          <p:nvPr>
            <p:ph/>
          </p:nvPr>
        </p:nvSpPr>
        <p:spPr>
          <a:xfrm>
            <a:off x="53316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7"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8" name="PlaceHolder 4"/>
          <p:cNvSpPr>
            <a:spLocks noGrp="1"/>
          </p:cNvSpPr>
          <p:nvPr>
            <p:ph/>
          </p:nvPr>
        </p:nvSpPr>
        <p:spPr>
          <a:xfrm>
            <a:off x="463284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0"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1"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2" name="PlaceHolder 4"/>
          <p:cNvSpPr>
            <a:spLocks noGrp="1"/>
          </p:cNvSpPr>
          <p:nvPr>
            <p:ph/>
          </p:nvPr>
        </p:nvSpPr>
        <p:spPr>
          <a:xfrm>
            <a:off x="533160" y="342864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609624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ick to edit the title text format</a:t>
            </a:r>
            <a:endParaRPr b="0" lang="en-US" sz="2400" spc="-1" strike="noStrike">
              <a:solidFill>
                <a:srgbClr val="000000"/>
              </a:solidFill>
              <a:latin typeface="Lucida Sans"/>
            </a:endParaRPr>
          </a:p>
        </p:txBody>
      </p:sp>
      <p:sp>
        <p:nvSpPr>
          <p:cNvPr id="1" name="PlaceHolder 2"/>
          <p:cNvSpPr>
            <a:spLocks noGrp="1"/>
          </p:cNvSpPr>
          <p:nvPr>
            <p:ph type="body"/>
          </p:nvPr>
        </p:nvSpPr>
        <p:spPr>
          <a:xfrm>
            <a:off x="533160" y="761760"/>
            <a:ext cx="8001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lick to edit the outline text format</a:t>
            </a:r>
            <a:endParaRPr b="0" lang="en-US" sz="3200" spc="-1" strike="noStrike">
              <a:solidFill>
                <a:srgbClr val="000000"/>
              </a:solidFill>
              <a:latin typeface="Lucida Sans"/>
            </a:endParaRPr>
          </a:p>
          <a:p>
            <a:pPr lvl="1" marL="743040" indent="-2858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cond Outline Level</a:t>
            </a:r>
            <a:endParaRPr b="0" lang="en-US" sz="3200" spc="-1" strike="noStrike">
              <a:solidFill>
                <a:srgbClr val="000000"/>
              </a:solidFill>
              <a:latin typeface="Lucida Sans"/>
            </a:endParaRPr>
          </a:p>
          <a:p>
            <a:pPr lvl="2" marL="11430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ird Outline Level</a:t>
            </a:r>
            <a:endParaRPr b="0" lang="en-US" sz="3200" spc="-1" strike="noStrike">
              <a:solidFill>
                <a:srgbClr val="000000"/>
              </a:solidFill>
              <a:latin typeface="Lucida Sans"/>
            </a:endParaRPr>
          </a:p>
          <a:p>
            <a:pPr lvl="3" marL="16002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urth Outline Level</a:t>
            </a:r>
            <a:endParaRPr b="0" lang="en-US" sz="3200" spc="-1" strike="noStrike">
              <a:solidFill>
                <a:srgbClr val="000000"/>
              </a:solidFill>
              <a:latin typeface="Lucida Sans"/>
            </a:endParaRPr>
          </a:p>
          <a:p>
            <a:pPr lvl="4"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ifth Outline Level</a:t>
            </a:r>
            <a:endParaRPr b="0" lang="en-US" sz="3200" spc="-1" strike="noStrike">
              <a:solidFill>
                <a:srgbClr val="000000"/>
              </a:solidFill>
              <a:latin typeface="Lucida Sans"/>
            </a:endParaRPr>
          </a:p>
          <a:p>
            <a:pPr lvl="5"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ixth Outline Level</a:t>
            </a:r>
            <a:endParaRPr b="0" lang="en-US" sz="3200" spc="-1" strike="noStrike">
              <a:solidFill>
                <a:srgbClr val="000000"/>
              </a:solidFill>
              <a:latin typeface="Lucida Sans"/>
            </a:endParaRPr>
          </a:p>
          <a:p>
            <a:pPr lvl="6"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venth Outline Level</a:t>
            </a:r>
            <a:endParaRPr b="0" lang="en-US" sz="3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Gehring@foo.Fh-Furtwangen.de" TargetMode="External"/><Relationship Id="rId3" Type="http://schemas.openxmlformats.org/officeDocument/2006/relationships/hyperlink" Target="mailto:Gehring@foo.Fh-Furtwangen.de" TargetMode="External"/><Relationship Id="rId4" Type="http://schemas.openxmlformats.org/officeDocument/2006/relationships/hyperlink" Target="mailto:Gehring@foo.Fh-Furtwangen.de" TargetMode="External"/><Relationship Id="rId5" Type="http://schemas.openxmlformats.org/officeDocument/2006/relationships/hyperlink" Target="mailto:Gehring@foo.Fh-Furtwangen.de" TargetMode="External"/><Relationship Id="rId6" Type="http://schemas.openxmlformats.org/officeDocument/2006/relationships/hyperlink" Target="mailto:Gehring@foo.Fh-Furtwangen.de" TargetMode="External"/><Relationship Id="rId7" Type="http://schemas.openxmlformats.org/officeDocument/2006/relationships/hyperlink" Target="mailto:schneider@foo.Fh-Furtwangen.de" TargetMode="External"/><Relationship Id="rId8" Type="http://schemas.openxmlformats.org/officeDocument/2006/relationships/hyperlink" Target="mailto:schneider@foo.Fh-Furtwangen.de" TargetMode="External"/><Relationship Id="rId9" Type="http://schemas.openxmlformats.org/officeDocument/2006/relationships/hyperlink" Target="mailto:schneider@foo.Fh-Furtwangen.de"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46" name=""/>
          <p:cNvSpPr/>
          <p:nvPr/>
        </p:nvSpPr>
        <p:spPr>
          <a:xfrm>
            <a:off x="533520" y="762120"/>
            <a:ext cx="80010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munikation- und Netzdesign 2 </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rtrag über</a:t>
            </a:r>
            <a:endParaRPr b="0" lang="en-US" sz="2400" spc="-1" strike="noStrike">
              <a:solidFill>
                <a:srgbClr val="000000"/>
              </a:solidFill>
              <a:latin typeface="Lucida Sans"/>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LANs </a:t>
            </a:r>
            <a:endParaRPr b="0" lang="en-US" sz="40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Gehring, Alexander Schneider</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5 - SS 2000 - FH Furtwangen</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7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Unterschiedliche VLAN-Konzept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Zuordnungsvarianten</a:t>
            </a:r>
            <a:endParaRPr b="0" lang="en-US" sz="2400" spc="-1" strike="noStrike">
              <a:solidFill>
                <a:srgbClr val="000000"/>
              </a:solidFill>
              <a:latin typeface="Lucida Sans"/>
            </a:endParaRPr>
          </a:p>
        </p:txBody>
      </p:sp>
      <p:sp>
        <p:nvSpPr>
          <p:cNvPr id="78"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 name=""/>
          <p:cNvSpPr/>
          <p:nvPr/>
        </p:nvSpPr>
        <p:spPr>
          <a:xfrm>
            <a:off x="820800" y="933480"/>
            <a:ext cx="5651640" cy="367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rPr>
              <a:t>Zuordnungsvarianten:</a:t>
            </a:r>
            <a:endParaRPr b="0" lang="en-US" sz="32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Switch-Port</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MAC-Adresse des Endgerätes</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Network-Layer-Protocol</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Anwendungen</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verschiedene Kombinationen</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81" name="VLAN-Kriterien" descr=""/>
          <p:cNvPicPr/>
          <p:nvPr/>
        </p:nvPicPr>
        <p:blipFill>
          <a:blip r:embed="rId2"/>
          <a:stretch/>
        </p:blipFill>
        <p:spPr>
          <a:xfrm>
            <a:off x="1865160" y="1174680"/>
            <a:ext cx="5411880" cy="4508640"/>
          </a:xfrm>
          <a:prstGeom prst="rect">
            <a:avLst/>
          </a:prstGeom>
          <a:ln w="0">
            <a:noFill/>
          </a:ln>
        </p:spPr>
      </p:pic>
      <p:sp>
        <p:nvSpPr>
          <p:cNvPr id="82"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Zuordnungsvarianten</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2 Layer 1 VLANs</a:t>
            </a:r>
            <a:endParaRPr b="0" lang="en-US" sz="2400" spc="-1" strike="noStrike">
              <a:solidFill>
                <a:srgbClr val="000000"/>
              </a:solidFill>
              <a:latin typeface="Lucida Sans"/>
            </a:endParaRPr>
          </a:p>
        </p:txBody>
      </p:sp>
      <p:sp>
        <p:nvSpPr>
          <p:cNvPr id="84"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 name=""/>
          <p:cNvSpPr/>
          <p:nvPr/>
        </p:nvSpPr>
        <p:spPr>
          <a:xfrm>
            <a:off x="766080" y="914400"/>
            <a:ext cx="772596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ayer 1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rden von nahezu allen Herstellern unterstütz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ird in IEEE 802.1q zum VLAN-Standar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fachste Form von virtuellen LAN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ufbau mit Hilfe von Layer 2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witch legt MAC-Adressen in Adresstabelle ab</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fache Implementierung in bestehende Netz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ereinfachte Fehlersuch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utomatisierter Umzug eingeschränkt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87" name="VLAN-Layer1_2" descr=""/>
          <p:cNvPicPr/>
          <p:nvPr/>
        </p:nvPicPr>
        <p:blipFill>
          <a:blip r:embed="rId2"/>
          <a:stretch/>
        </p:blipFill>
        <p:spPr>
          <a:xfrm>
            <a:off x="1814400" y="1371600"/>
            <a:ext cx="5513400" cy="4114800"/>
          </a:xfrm>
          <a:prstGeom prst="rect">
            <a:avLst/>
          </a:prstGeom>
          <a:ln w="0">
            <a:noFill/>
          </a:ln>
        </p:spPr>
      </p:pic>
      <p:sp>
        <p:nvSpPr>
          <p:cNvPr id="8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2 Layer 1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3 Layer 2 VLANs</a:t>
            </a:r>
            <a:endParaRPr b="0" lang="en-US" sz="2400" spc="-1" strike="noStrike">
              <a:solidFill>
                <a:srgbClr val="000000"/>
              </a:solidFill>
              <a:latin typeface="Lucida Sans"/>
            </a:endParaRPr>
          </a:p>
        </p:txBody>
      </p:sp>
      <p:sp>
        <p:nvSpPr>
          <p:cNvPr id="90"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 name=""/>
          <p:cNvSpPr/>
          <p:nvPr/>
        </p:nvSpPr>
        <p:spPr>
          <a:xfrm>
            <a:off x="766080" y="990720"/>
            <a:ext cx="737208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Layer 2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werden auf Basis von MAC-Adressen gebilde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ufbau mit Hilfe von Layer 2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ositiv- oder Negative-learni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roblematische Erstkonfiguratio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ustausch zwischen den Switchsysteme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nuelle Konfiguration jedes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Host unabhängig vom physischen Standor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satz von mobilen Komponenten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93" name="VLAN-Layer2_1" descr=""/>
          <p:cNvPicPr/>
          <p:nvPr/>
        </p:nvPicPr>
        <p:blipFill>
          <a:blip r:embed="rId2"/>
          <a:stretch/>
        </p:blipFill>
        <p:spPr>
          <a:xfrm>
            <a:off x="1066680" y="838080"/>
            <a:ext cx="5932440" cy="5167440"/>
          </a:xfrm>
          <a:prstGeom prst="rect">
            <a:avLst/>
          </a:prstGeom>
          <a:ln w="0">
            <a:noFill/>
          </a:ln>
        </p:spPr>
      </p:pic>
      <p:sp>
        <p:nvSpPr>
          <p:cNvPr id="94"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3 Layer 2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4 Layer 3 VLANs</a:t>
            </a:r>
            <a:endParaRPr b="0" lang="en-US" sz="2400" spc="-1" strike="noStrike">
              <a:solidFill>
                <a:srgbClr val="000000"/>
              </a:solidFill>
              <a:latin typeface="Lucida Sans"/>
            </a:endParaRPr>
          </a:p>
        </p:txBody>
      </p:sp>
      <p:sp>
        <p:nvSpPr>
          <p:cNvPr id="96"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7" name=""/>
          <p:cNvSpPr/>
          <p:nvPr/>
        </p:nvSpPr>
        <p:spPr>
          <a:xfrm>
            <a:off x="763920" y="990720"/>
            <a:ext cx="7416360" cy="530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Layer 3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ordnung durch Netzadress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 Art der Layer 3 Protokoll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 Subnetzbildu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optimale Verkehrsüberwachu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gründliche Planung nötig</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Verkehrsbeziehungen im Netz</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gesetzte Protokoll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ögliche Reduzierung der Protokollvielfal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fache Manipulation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99" name="VLAN-Layer3_1" descr=""/>
          <p:cNvPicPr/>
          <p:nvPr/>
        </p:nvPicPr>
        <p:blipFill>
          <a:blip r:embed="rId2"/>
          <a:stretch/>
        </p:blipFill>
        <p:spPr>
          <a:xfrm>
            <a:off x="1219320" y="762120"/>
            <a:ext cx="5640120" cy="5259240"/>
          </a:xfrm>
          <a:prstGeom prst="rect">
            <a:avLst/>
          </a:prstGeom>
          <a:ln w="0">
            <a:noFill/>
          </a:ln>
        </p:spPr>
      </p:pic>
      <p:sp>
        <p:nvSpPr>
          <p:cNvPr id="100"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4 Layer 3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5 Policy - basierende VLANs</a:t>
            </a:r>
            <a:endParaRPr b="0" lang="en-US" sz="2400" spc="-1" strike="noStrike">
              <a:solidFill>
                <a:srgbClr val="000000"/>
              </a:solidFill>
              <a:latin typeface="Lucida Sans"/>
            </a:endParaRPr>
          </a:p>
        </p:txBody>
      </p:sp>
      <p:sp>
        <p:nvSpPr>
          <p:cNvPr id="102"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03" name=""/>
          <p:cNvSpPr/>
          <p:nvPr/>
        </p:nvSpPr>
        <p:spPr>
          <a:xfrm>
            <a:off x="764640" y="990720"/>
            <a:ext cx="707184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Policy-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verwenden logische Zuordnunge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ort</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C</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etz</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rotokoll-Adress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bildung und kombinieren aller vorig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ehr komplexer Administrationsaufwan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geschränkte Verfügbarkeit</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tragsübersicht</a:t>
            </a:r>
            <a:endParaRPr b="0" lang="en-US" sz="2400" spc="-1" strike="noStrike">
              <a:solidFill>
                <a:srgbClr val="000000"/>
              </a:solidFill>
              <a:latin typeface="Lucida Sans"/>
            </a:endParaRPr>
          </a:p>
        </p:txBody>
      </p:sp>
      <p:sp>
        <p:nvSpPr>
          <p:cNvPr id="48" name=""/>
          <p:cNvSpPr/>
          <p:nvPr/>
        </p:nvSpPr>
        <p:spPr>
          <a:xfrm>
            <a:off x="914400" y="762120"/>
            <a:ext cx="5867280" cy="5410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1" lang="de-DE" sz="2400" spc="-1" strike="noStrike">
                <a:solidFill>
                  <a:srgbClr val="000000"/>
                </a:solidFill>
                <a:latin typeface="Times New Roman"/>
              </a:rPr>
              <a:t>1. Einleitung</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1 Grundlagen von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2 Switches</a:t>
            </a:r>
            <a:endParaRPr b="0" lang="en-US" sz="2000" spc="-1" strike="noStrike">
              <a:solidFill>
                <a:srgbClr val="000000"/>
              </a:solidFill>
              <a:latin typeface="Lucida Sans"/>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 unterschiedliche VLAN-Konzepte</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1 Zuordnungsvarianten</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2 Layer 1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3 Layer 2 VLANs </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4 Layer 3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5 Policy – basierende VLANs</a:t>
            </a:r>
            <a:endParaRPr b="0" lang="en-US" sz="2000" spc="-1" strike="noStrike">
              <a:solidFill>
                <a:srgbClr val="000000"/>
              </a:solidFill>
              <a:latin typeface="Lucida Sans"/>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 VLAN im Back-Bone</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3.1 Austausch von Adresstabellen</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3.2 Frame Tagging</a:t>
            </a:r>
            <a:endParaRPr b="0" lang="en-US" sz="2000" spc="-1" strike="noStrike">
              <a:solidFill>
                <a:srgbClr val="000000"/>
              </a:solidFill>
              <a:latin typeface="Lucida Sans"/>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105" name="VLAN-Policy_basierend" descr=""/>
          <p:cNvPicPr/>
          <p:nvPr/>
        </p:nvPicPr>
        <p:blipFill>
          <a:blip r:embed="rId2"/>
          <a:stretch/>
        </p:blipFill>
        <p:spPr>
          <a:xfrm>
            <a:off x="990720" y="838080"/>
            <a:ext cx="5976720" cy="5132520"/>
          </a:xfrm>
          <a:prstGeom prst="rect">
            <a:avLst/>
          </a:prstGeom>
          <a:ln w="0">
            <a:noFill/>
          </a:ln>
        </p:spPr>
      </p:pic>
      <p:sp>
        <p:nvSpPr>
          <p:cNvPr id="106"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5 Policy - basierende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8"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3. VLAN im Back-Bon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Austausch von Adresstabellen</a:t>
            </a:r>
            <a:endParaRPr b="0" lang="en-US" sz="2400" spc="-1" strike="noStrike">
              <a:solidFill>
                <a:srgbClr val="000000"/>
              </a:solidFill>
              <a:latin typeface="Lucida Sans"/>
            </a:endParaRPr>
          </a:p>
        </p:txBody>
      </p:sp>
      <p:sp>
        <p:nvSpPr>
          <p:cNvPr id="110"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1" name=""/>
          <p:cNvSpPr/>
          <p:nvPr/>
        </p:nvSpPr>
        <p:spPr>
          <a:xfrm>
            <a:off x="828000" y="981000"/>
            <a:ext cx="7728840" cy="376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ustausch von Adresstabellen</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formationsaustausch zwischen den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nden der Adresstabelle an andere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zuteilen einer VLAN-I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satz effizienter Suchalgorithm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outer nur zum Datentransport</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eine Überprüfung der VLAN-Zugehörigkeit</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2 Frame Tagging</a:t>
            </a:r>
            <a:endParaRPr b="0" lang="en-US" sz="2400" spc="-1" strike="noStrike">
              <a:solidFill>
                <a:srgbClr val="000000"/>
              </a:solidFill>
              <a:latin typeface="Lucida Sans"/>
            </a:endParaRPr>
          </a:p>
        </p:txBody>
      </p:sp>
      <p:sp>
        <p:nvSpPr>
          <p:cNvPr id="113"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4" name=""/>
          <p:cNvSpPr/>
          <p:nvPr/>
        </p:nvSpPr>
        <p:spPr>
          <a:xfrm>
            <a:off x="826920" y="981000"/>
            <a:ext cx="7747200" cy="427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Frame Tagging</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rmöglicht VLAN-Informationen auf Layer 2 zu</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übertrag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Unterstützung der bestehenden IEEE 802.x</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C-Servic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rweiterung des QoS (IEEE 802.1P)</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schränkung auf portbasierende VLAN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panning Tree</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1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Sicherheit</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1 portbasierte VLANs</a:t>
            </a:r>
            <a:endParaRPr b="0" lang="en-US" sz="2400" spc="-1" strike="noStrike">
              <a:solidFill>
                <a:srgbClr val="000000"/>
              </a:solidFill>
              <a:latin typeface="Lucida Sans"/>
            </a:endParaRPr>
          </a:p>
        </p:txBody>
      </p:sp>
      <p:sp>
        <p:nvSpPr>
          <p:cNvPr id="118"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9" name=""/>
          <p:cNvSpPr/>
          <p:nvPr/>
        </p:nvSpPr>
        <p:spPr>
          <a:xfrm>
            <a:off x="846360" y="914400"/>
            <a:ext cx="720144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portbasiert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tritt zu Räumen mit VLAN-Dosen nur für</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rechtigte Person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sätzliche Authentifikatio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für jedes VLAN eigenen Administrator</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führen von Teilnehmerlisten</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2 MAC – Adressen basierende VLANs</a:t>
            </a:r>
            <a:endParaRPr b="0" lang="en-US" sz="2400" spc="-1" strike="noStrike">
              <a:solidFill>
                <a:srgbClr val="000000"/>
              </a:solidFill>
              <a:latin typeface="Lucida Sans"/>
            </a:endParaRPr>
          </a:p>
        </p:txBody>
      </p:sp>
      <p:sp>
        <p:nvSpPr>
          <p:cNvPr id="121"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2" name=""/>
          <p:cNvSpPr/>
          <p:nvPr/>
        </p:nvSpPr>
        <p:spPr>
          <a:xfrm>
            <a:off x="843840" y="914400"/>
            <a:ext cx="765576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MAC-Adressen 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witch entscheidet, die Zugehörigkeit zu 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Weiterleitung Aufgrund der MAC-Adress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ordnung neuer MACs zu Default-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bweisung neuer MAC-Adress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eldung an Netadmin, bei neuer MAC-Adresse</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3 IP – basierende VLANs</a:t>
            </a:r>
            <a:endParaRPr b="0" lang="en-US" sz="2400" spc="-1" strike="noStrike">
              <a:solidFill>
                <a:srgbClr val="000000"/>
              </a:solidFill>
              <a:latin typeface="Lucida Sans"/>
            </a:endParaRPr>
          </a:p>
        </p:txBody>
      </p:sp>
      <p:sp>
        <p:nvSpPr>
          <p:cNvPr id="124"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5" name=""/>
          <p:cNvSpPr/>
          <p:nvPr/>
        </p:nvSpPr>
        <p:spPr>
          <a:xfrm>
            <a:off x="843120" y="914400"/>
            <a:ext cx="767844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IP 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witch entscheidet, die Zugehörigkeit zu 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sondere Vorsichtsmaßnahmen, da IP-Adresse</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leicht veränderbar</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eueintrag nur vom Netadmi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eldung jeder nicht genehmigten IP</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27"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Bewertung</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1 Bewertung der Layer 1 – 3 VLANs</a:t>
            </a:r>
            <a:endParaRPr b="0" lang="en-US" sz="2400" spc="-1" strike="noStrike">
              <a:solidFill>
                <a:srgbClr val="000000"/>
              </a:solidFill>
              <a:latin typeface="Lucida Sans"/>
            </a:endParaRPr>
          </a:p>
        </p:txBody>
      </p:sp>
      <p:sp>
        <p:nvSpPr>
          <p:cNvPr id="129"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aphicFrame>
        <p:nvGraphicFramePr>
          <p:cNvPr id="130" name=""/>
          <p:cNvGraphicFramePr/>
          <p:nvPr/>
        </p:nvGraphicFramePr>
        <p:xfrm>
          <a:off x="685800" y="1143000"/>
          <a:ext cx="7620120" cy="380880"/>
        </p:xfrm>
        <a:graphic>
          <a:graphicData uri="http://schemas.openxmlformats.org/drawingml/2006/table">
            <a:tbl>
              <a:tblPr/>
              <a:tblGrid>
                <a:gridCol w="2098800"/>
                <a:gridCol w="1863720"/>
                <a:gridCol w="1790640"/>
                <a:gridCol w="18669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kteristika</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1-VLAN</a:t>
                      </a:r>
                      <a:endParaRPr b="0" lang="en-US" sz="18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2-VLAN</a:t>
                      </a:r>
                      <a:endParaRPr b="0" lang="en-US" sz="18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3-VLAN</a:t>
                      </a:r>
                      <a:endParaRPr b="0" lang="en-US" sz="18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graphicFrame>
        <p:nvGraphicFramePr>
          <p:cNvPr id="131" name=""/>
          <p:cNvGraphicFramePr/>
          <p:nvPr/>
        </p:nvGraphicFramePr>
        <p:xfrm>
          <a:off x="685800" y="1676520"/>
          <a:ext cx="7620120" cy="3714480"/>
        </p:xfrm>
        <a:graphic>
          <a:graphicData uri="http://schemas.openxmlformats.org/drawingml/2006/table">
            <a:tbl>
              <a:tblPr/>
              <a:tblGrid>
                <a:gridCol w="2133720"/>
                <a:gridCol w="1828800"/>
                <a:gridCol w="1752480"/>
                <a:gridCol w="1905120"/>
              </a:tblGrid>
              <a:tr h="932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fwand, um Endgeräte einem VLAN zuzuordnen</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ring</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ch</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ministrations-</a:t>
                      </a:r>
                      <a:br>
                        <a:rPr sz="1800"/>
                      </a:br>
                      <a:r>
                        <a:rPr b="1" lang="en-US" sz="1800" spc="-1" strike="noStrike">
                          <a:solidFill>
                            <a:srgbClr val="000000"/>
                          </a:solidFill>
                          <a:latin typeface="Times New Roman"/>
                        </a:rPr>
                        <a:t>aufwand bei Änderungen</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ring</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 bis</a:t>
                      </a:r>
                      <a:br>
                        <a:rPr sz="1800"/>
                      </a:br>
                      <a:r>
                        <a:rPr b="1" lang="en-US" sz="1800" spc="-1" strike="noStrike">
                          <a:solidFill>
                            <a:srgbClr val="000000"/>
                          </a:solidFill>
                          <a:latin typeface="Times New Roman"/>
                        </a:rPr>
                        <a:t> gering</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hrere VLANs pro Port</a:t>
                      </a:r>
                      <a:endParaRPr b="0" lang="en-US" sz="1800" spc="-1" strike="noStrike">
                        <a:solidFill>
                          <a:srgbClr val="000000"/>
                        </a:solidFill>
                        <a:latin typeface="Lucida San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in</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öglich</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öglich</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cherheit</a:t>
                      </a:r>
                      <a:endParaRPr b="0" lang="en-US" sz="1800" spc="-1" strike="noStrike">
                        <a:solidFill>
                          <a:srgbClr val="000000"/>
                        </a:solidFill>
                        <a:latin typeface="Lucida San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nimal</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762120"/>
            <a:ext cx="70106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 Sicherheit</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1 portbasierte VLANs</a:t>
            </a:r>
            <a:endParaRPr b="0" lang="en-US" sz="20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2 Mac – Adresse basierende VLANs</a:t>
            </a:r>
            <a:endParaRPr b="0" lang="en-US" sz="20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3 IP – basierende VLANs</a:t>
            </a:r>
            <a:endParaRPr b="0" lang="en-US" sz="2000" spc="-1" strike="noStrike">
              <a:solidFill>
                <a:srgbClr val="000000"/>
              </a:solidFill>
              <a:latin typeface="Lucida San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 Bewertung</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5.1 Bewertung der Laver 1 - 3 VLANs</a:t>
            </a:r>
            <a:endParaRPr b="0" lang="en-US" sz="2000" spc="-1" strike="noStrike">
              <a:solidFill>
                <a:srgbClr val="000000"/>
              </a:solidFill>
              <a:latin typeface="Lucida San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6. Praktisches Beispiel</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6.1 Konfiguration eines Cisco – Catalyst 5500</a:t>
            </a:r>
            <a:endParaRPr b="0" lang="en-US" sz="2000" spc="-1" strike="noStrike">
              <a:solidFill>
                <a:srgbClr val="000000"/>
              </a:solidFill>
              <a:latin typeface="Lucida Sans"/>
            </a:endParaRPr>
          </a:p>
        </p:txBody>
      </p:sp>
      <p:sp>
        <p:nvSpPr>
          <p:cNvPr id="50"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tragsübersicht</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33"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Praktisches Beispiel</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6.1 Konfiguration eines Cisco Catalyst 5500</a:t>
            </a:r>
            <a:endParaRPr b="0" lang="en-US" sz="2400" spc="-1" strike="noStrike">
              <a:solidFill>
                <a:srgbClr val="000000"/>
              </a:solidFill>
              <a:latin typeface="Lucida Sans"/>
            </a:endParaRPr>
          </a:p>
        </p:txBody>
      </p:sp>
      <p:sp>
        <p:nvSpPr>
          <p:cNvPr id="135"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36" name=""/>
          <p:cNvSpPr/>
          <p:nvPr/>
        </p:nvSpPr>
        <p:spPr>
          <a:xfrm>
            <a:off x="838080" y="914400"/>
            <a:ext cx="7391520" cy="44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Beispielkonfiguration des Cisco </a:t>
            </a:r>
            <a:br>
              <a:rPr sz="3200"/>
            </a:br>
            <a:r>
              <a:rPr b="0" lang="de-DE" sz="3200" spc="-1" strike="noStrike">
                <a:solidFill>
                  <a:srgbClr val="000000"/>
                </a:solidFill>
                <a:latin typeface="Times New Roman"/>
              </a:rPr>
              <a:t> Catalyst 5500 finden die als Textdatei mit</a:t>
            </a:r>
            <a:br>
              <a:rPr sz="3200"/>
            </a:br>
            <a:r>
              <a:rPr b="0" lang="de-DE" sz="3200" spc="-1" strike="noStrike">
                <a:solidFill>
                  <a:srgbClr val="000000"/>
                </a:solidFill>
                <a:latin typeface="Times New Roman"/>
              </a:rPr>
              <a:t> dem Namen KNDIIVlanConfig.txt</a:t>
            </a:r>
            <a:endParaRPr b="0" lang="en-US" sz="3200" spc="-1" strike="noStrike">
              <a:solidFill>
                <a:srgbClr val="000000"/>
              </a:solidFill>
              <a:latin typeface="Lucida Sans"/>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ei Fragen schreibt einfach eine</a:t>
            </a:r>
            <a:br>
              <a:rPr sz="3200"/>
            </a:br>
            <a:r>
              <a:rPr b="0" lang="de-DE" sz="3200" spc="-1" strike="noStrike">
                <a:solidFill>
                  <a:srgbClr val="000000"/>
                </a:solidFill>
                <a:latin typeface="Times New Roman"/>
              </a:rPr>
              <a:t>  Mail an:</a:t>
            </a: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Lucida Sans"/>
                <a:hlinkClick r:id="rId2"/>
              </a:rPr>
              <a:t>Gehring@</a:t>
            </a:r>
            <a:r>
              <a:rPr b="0" lang="de-DE" sz="3200" spc="-1" strike="noStrike" u="sng">
                <a:solidFill>
                  <a:srgbClr val="ccccff"/>
                </a:solidFill>
                <a:uFillTx/>
                <a:latin typeface="Lucida Sans"/>
                <a:hlinkClick r:id="rId3"/>
              </a:rPr>
              <a:t>foo</a:t>
            </a:r>
            <a:r>
              <a:rPr b="0" lang="de-DE" sz="3200" spc="-1" strike="noStrike" u="sng">
                <a:solidFill>
                  <a:srgbClr val="ccccff"/>
                </a:solidFill>
                <a:uFillTx/>
                <a:latin typeface="Lucida Sans"/>
                <a:hlinkClick r:id="rId4"/>
              </a:rPr>
              <a:t>.</a:t>
            </a:r>
            <a:r>
              <a:rPr b="0" lang="de-DE" sz="3200" spc="-1" strike="noStrike" u="sng">
                <a:solidFill>
                  <a:srgbClr val="ccccff"/>
                </a:solidFill>
                <a:uFillTx/>
                <a:latin typeface="Lucida Sans"/>
                <a:hlinkClick r:id="rId5"/>
              </a:rPr>
              <a:t>Fh</a:t>
            </a:r>
            <a:r>
              <a:rPr b="0" lang="de-DE" sz="3200" spc="-1" strike="noStrike" u="sng">
                <a:solidFill>
                  <a:srgbClr val="ccccff"/>
                </a:solidFill>
                <a:uFillTx/>
                <a:latin typeface="Lucida Sans"/>
                <a:hlinkClick r:id="rId6"/>
              </a:rPr>
              <a:t>-Furtwangen.de</a:t>
            </a: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Lucida Sans"/>
                <a:hlinkClick r:id="rId7"/>
              </a:rPr>
              <a:t>Schneider@</a:t>
            </a:r>
            <a:r>
              <a:rPr b="0" lang="de-DE" sz="3200" spc="-1" strike="noStrike" u="sng">
                <a:solidFill>
                  <a:srgbClr val="ccccff"/>
                </a:solidFill>
                <a:uFillTx/>
                <a:latin typeface="Lucida Sans"/>
                <a:hlinkClick r:id="rId8"/>
              </a:rPr>
              <a:t>foo</a:t>
            </a:r>
            <a:r>
              <a:rPr b="0" lang="de-DE" sz="3200" spc="-1" strike="noStrike" u="sng">
                <a:solidFill>
                  <a:srgbClr val="ccccff"/>
                </a:solidFill>
                <a:uFillTx/>
                <a:latin typeface="Lucida Sans"/>
                <a:hlinkClick r:id="rId9"/>
              </a:rPr>
              <a:t>.FH-Furtwangen.d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2"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inleitung</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Grundlagen von VLANs</a:t>
            </a:r>
            <a:endParaRPr b="0" lang="en-US" sz="2400" spc="-1" strike="noStrike">
              <a:solidFill>
                <a:srgbClr val="000000"/>
              </a:solidFill>
              <a:latin typeface="Lucida Sans"/>
            </a:endParaRPr>
          </a:p>
        </p:txBody>
      </p:sp>
      <p:sp>
        <p:nvSpPr>
          <p:cNvPr id="54"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 name=""/>
          <p:cNvSpPr/>
          <p:nvPr/>
        </p:nvSpPr>
        <p:spPr>
          <a:xfrm>
            <a:off x="838080" y="914400"/>
            <a:ext cx="7391520" cy="91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rPr>
              <a:t>Was sind VLANs ?</a:t>
            </a:r>
            <a:endParaRPr b="0" lang="en-US" sz="32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Trennung von physikalischer und logischer Netzstruktur</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Endgeräte der Benutzer bilden logische Gruppen unabhängig</a:t>
            </a:r>
            <a:br>
              <a:rPr sz="2000"/>
            </a:br>
            <a:r>
              <a:rPr b="1" lang="de-DE" sz="2000" spc="-1" strike="noStrike">
                <a:solidFill>
                  <a:srgbClr val="000000"/>
                </a:solidFill>
                <a:latin typeface="Times New Roman"/>
              </a:rPr>
              <a:t>  von ihrem physischen Standort</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logische Gruppen können miteinander kommunizieren als ob sie</a:t>
            </a:r>
            <a:br>
              <a:rPr sz="2000"/>
            </a:br>
            <a:r>
              <a:rPr b="1" lang="de-DE" sz="2000" spc="-1" strike="noStrike">
                <a:solidFill>
                  <a:srgbClr val="000000"/>
                </a:solidFill>
                <a:latin typeface="Times New Roman"/>
              </a:rPr>
              <a:t>  zum selben physischen LAN gehör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Orts-Beziehung zwischen aktiven und passiven Komponenten</a:t>
            </a:r>
            <a:br>
              <a:rPr sz="2000"/>
            </a:br>
            <a:r>
              <a:rPr b="1" lang="de-DE" sz="2000" spc="-1" strike="noStrike">
                <a:solidFill>
                  <a:srgbClr val="000000"/>
                </a:solidFill>
                <a:latin typeface="Times New Roman"/>
              </a:rPr>
              <a:t>  aufgelöst werd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reiere Zuordnung von Benutzern zu Netzressourcen kann</a:t>
            </a:r>
            <a:br>
              <a:rPr sz="2000"/>
            </a:br>
            <a:r>
              <a:rPr b="1" lang="de-DE" sz="2000" spc="-1" strike="noStrike">
                <a:solidFill>
                  <a:srgbClr val="000000"/>
                </a:solidFill>
                <a:latin typeface="Times New Roman"/>
              </a:rPr>
              <a:t>  vorgenommen werd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Zusammenschluss kann organisatorischer oder technischer Art</a:t>
            </a:r>
            <a:br>
              <a:rPr sz="2000"/>
            </a:br>
            <a:r>
              <a:rPr b="1" lang="de-DE" sz="2000" spc="-1" strike="noStrike">
                <a:solidFill>
                  <a:srgbClr val="000000"/>
                </a:solidFill>
                <a:latin typeface="Times New Roman"/>
              </a:rPr>
              <a:t>  sein ( Abteilung, Projekt, Quality-of-Service (QoS) )</a:t>
            </a:r>
            <a:endParaRPr b="0" lang="en-US" sz="20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213280" y="22860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Grundlagen von VLANs</a:t>
            </a:r>
            <a:endParaRPr b="0" lang="en-US" sz="2400" spc="-1" strike="noStrike">
              <a:solidFill>
                <a:srgbClr val="000000"/>
              </a:solidFill>
              <a:latin typeface="Lucida Sans"/>
            </a:endParaRPr>
          </a:p>
        </p:txBody>
      </p:sp>
      <p:sp>
        <p:nvSpPr>
          <p:cNvPr id="57" name=""/>
          <p:cNvSpPr/>
          <p:nvPr/>
        </p:nvSpPr>
        <p:spPr>
          <a:xfrm>
            <a:off x="762120" y="892080"/>
            <a:ext cx="7772400" cy="396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3200" spc="-1" strike="noStrike" u="sng">
                <a:solidFill>
                  <a:srgbClr val="000000"/>
                </a:solidFill>
                <a:uFillTx/>
                <a:latin typeface="Times New Roman"/>
              </a:rPr>
              <a:t>Was sind VLANs ?</a:t>
            </a:r>
            <a:endParaRPr b="0" lang="en-US" sz="32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bei VLANs beschränkt sich Datenverkehr eines</a:t>
            </a:r>
            <a:br>
              <a:rPr sz="2400"/>
            </a:br>
            <a:r>
              <a:rPr b="1" lang="de-DE" sz="2400" spc="-1" strike="noStrike">
                <a:solidFill>
                  <a:srgbClr val="000000"/>
                </a:solidFill>
                <a:latin typeface="Times New Roman"/>
              </a:rPr>
              <a:t>  logischen Netzes auf eine Broadcastdomäne</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Teilnehmer eines VLANs werden über geswitchte</a:t>
            </a:r>
            <a:br>
              <a:rPr sz="2400"/>
            </a:br>
            <a:r>
              <a:rPr b="1" lang="de-DE" sz="2400" spc="-1" strike="noStrike">
                <a:solidFill>
                  <a:srgbClr val="000000"/>
                </a:solidFill>
                <a:latin typeface="Times New Roman"/>
              </a:rPr>
              <a:t>  Strukturen auf Ebene 2 gekoppelt</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Die Kommunikation zwischen unterschiedlichen VLANs</a:t>
            </a:r>
            <a:br>
              <a:rPr sz="2400"/>
            </a:br>
            <a:r>
              <a:rPr b="1" lang="de-DE" sz="2400" spc="-1" strike="noStrike">
                <a:solidFill>
                  <a:srgbClr val="000000"/>
                </a:solidFill>
                <a:latin typeface="Times New Roman"/>
              </a:rPr>
              <a:t>  erfolgt über Router auf Ebene 3</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bei einem VLAN über mehrere Switches steigt</a:t>
            </a:r>
            <a:br>
              <a:rPr sz="2400"/>
            </a:br>
            <a:r>
              <a:rPr b="1" lang="de-DE" sz="2400" spc="-1" strike="noStrike">
                <a:solidFill>
                  <a:srgbClr val="000000"/>
                </a:solidFill>
                <a:latin typeface="Times New Roman"/>
              </a:rPr>
              <a:t>  Datenverkehr zwischen den Komponenten erheblich</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sp>
        <p:nvSpPr>
          <p:cNvPr id="59"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 name=""/>
          <p:cNvSpPr/>
          <p:nvPr/>
        </p:nvSpPr>
        <p:spPr>
          <a:xfrm>
            <a:off x="838080" y="914400"/>
            <a:ext cx="7391520" cy="62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61" name=""/>
          <p:cNvSpPr/>
          <p:nvPr/>
        </p:nvSpPr>
        <p:spPr>
          <a:xfrm>
            <a:off x="838080" y="838080"/>
            <a:ext cx="7543800" cy="48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rPr>
              <a:t>Grundlagen von Switches:</a:t>
            </a:r>
            <a:endParaRPr b="0" lang="en-US" sz="24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es arbeiten auf Schicht 2 des ISO / OSI Modells</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ür schnelle und effiziente Kopplung zwischen mehreren</a:t>
            </a:r>
            <a:br>
              <a:rPr sz="2000"/>
            </a:br>
            <a:r>
              <a:rPr b="1" lang="de-DE" sz="2000" spc="-1" strike="noStrike">
                <a:solidFill>
                  <a:srgbClr val="000000"/>
                </a:solidFill>
                <a:latin typeface="Times New Roman"/>
              </a:rPr>
              <a:t>  LAN-Teilnetzen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es bieten den Vorteil den Verkehr zu separier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erkennen ob Packet teilnetzübergreifend oder teilnetzlokal</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ür Entscheidungen hat jeder Switch eine Adresstabell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 liest zu jedem an einem Port eingegangenen Frame die</a:t>
            </a:r>
            <a:br>
              <a:rPr sz="2000"/>
            </a:br>
            <a:r>
              <a:rPr b="1" lang="de-DE" sz="2000" spc="-1" strike="noStrike">
                <a:solidFill>
                  <a:srgbClr val="000000"/>
                </a:solidFill>
                <a:latin typeface="Times New Roman"/>
              </a:rPr>
              <a:t>  Source Adresse, und überprüft ob schon gespeiche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wenn nein speichert Switch MAC-Adresse und Port in Tabell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Zuordnung Destination Adresse – Ausgangsport kann zur</a:t>
            </a:r>
            <a:br>
              <a:rPr sz="2000"/>
            </a:br>
            <a:r>
              <a:rPr b="1" lang="de-DE" sz="2000" spc="-1" strike="noStrike">
                <a:solidFill>
                  <a:srgbClr val="000000"/>
                </a:solidFill>
                <a:latin typeface="Times New Roman"/>
              </a:rPr>
              <a:t>  Entscheidung der Weiterleitung jederzeit abgefragt werd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38080" y="838080"/>
            <a:ext cx="7543800" cy="19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undlagen von Switches:</a:t>
            </a:r>
            <a:endParaRPr b="0" lang="en-US" sz="24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i Switchen gibt es verschiedene Verarbeitungsmechanismen:</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 Cut Through-Switching</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Store and Forward-Switching</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through / fast forward:</a:t>
            </a:r>
            <a:endParaRPr b="0" lang="en-US" sz="2000" spc="-1" strike="noStrike">
              <a:solidFill>
                <a:srgbClr val="000000"/>
              </a:solidFill>
              <a:latin typeface="Lucida Sans"/>
            </a:endParaRPr>
          </a:p>
        </p:txBody>
      </p:sp>
      <p:sp>
        <p:nvSpPr>
          <p:cNvPr id="6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graphicFrame>
        <p:nvGraphicFramePr>
          <p:cNvPr id="64" name=""/>
          <p:cNvGraphicFramePr/>
          <p:nvPr/>
        </p:nvGraphicFramePr>
        <p:xfrm>
          <a:off x="762120" y="289548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65" name=""/>
          <p:cNvSpPr/>
          <p:nvPr/>
        </p:nvSpPr>
        <p:spPr>
          <a:xfrm>
            <a:off x="609480" y="2819520"/>
            <a:ext cx="426744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
        <p:nvSpPr>
          <p:cNvPr id="66" name=""/>
          <p:cNvSpPr/>
          <p:nvPr/>
        </p:nvSpPr>
        <p:spPr>
          <a:xfrm>
            <a:off x="838080" y="365904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through / fragment free:</a:t>
            </a:r>
            <a:endParaRPr b="0" lang="en-US" sz="2000" spc="-1" strike="noStrike">
              <a:solidFill>
                <a:srgbClr val="000000"/>
              </a:solidFill>
              <a:latin typeface="Lucida Sans"/>
            </a:endParaRPr>
          </a:p>
        </p:txBody>
      </p:sp>
      <p:graphicFrame>
        <p:nvGraphicFramePr>
          <p:cNvPr id="67" name=""/>
          <p:cNvGraphicFramePr/>
          <p:nvPr/>
        </p:nvGraphicFramePr>
        <p:xfrm>
          <a:off x="762120" y="411480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                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68" name=""/>
          <p:cNvSpPr/>
          <p:nvPr/>
        </p:nvSpPr>
        <p:spPr>
          <a:xfrm>
            <a:off x="5486400" y="4114800"/>
            <a:ext cx="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9" name=""/>
          <p:cNvSpPr/>
          <p:nvPr/>
        </p:nvSpPr>
        <p:spPr>
          <a:xfrm>
            <a:off x="685800" y="4038480"/>
            <a:ext cx="487692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
        <p:nvSpPr>
          <p:cNvPr id="70" name=""/>
          <p:cNvSpPr/>
          <p:nvPr/>
        </p:nvSpPr>
        <p:spPr>
          <a:xfrm>
            <a:off x="762120" y="47242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and-forward:</a:t>
            </a:r>
            <a:endParaRPr b="0" lang="en-US" sz="2000" spc="-1" strike="noStrike">
              <a:solidFill>
                <a:srgbClr val="000000"/>
              </a:solidFill>
              <a:latin typeface="Lucida Sans"/>
            </a:endParaRPr>
          </a:p>
        </p:txBody>
      </p:sp>
      <p:graphicFrame>
        <p:nvGraphicFramePr>
          <p:cNvPr id="71" name=""/>
          <p:cNvGraphicFramePr/>
          <p:nvPr/>
        </p:nvGraphicFramePr>
        <p:xfrm>
          <a:off x="685800" y="518148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                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72" name=""/>
          <p:cNvSpPr/>
          <p:nvPr/>
        </p:nvSpPr>
        <p:spPr>
          <a:xfrm>
            <a:off x="609480" y="5105520"/>
            <a:ext cx="769644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sp>
        <p:nvSpPr>
          <p:cNvPr id="74" name=""/>
          <p:cNvSpPr/>
          <p:nvPr/>
        </p:nvSpPr>
        <p:spPr>
          <a:xfrm>
            <a:off x="838080" y="838080"/>
            <a:ext cx="7543800" cy="392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in Switch wird bestimmt durch:</a:t>
            </a:r>
            <a:endParaRPr b="0" lang="en-US" sz="24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s Geräts ( modular, stackable, stand alon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zahl der zu verwaltenden MAC-Adressen pro Gerät / Po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r unterstützten Technologie ( Ethernet, FDDI, ATM,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zahl der Ports ( von 8 bis 100 Ports beim Enterprise Switch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nterstützte Geschwindigkeit pro Po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plink Ports ( Anbindung an Backbone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nterstützten VLAN-Typ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s unterstützen Managements ( Protokolle, MIBs)</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Kompatibilität mit Switches anderer Hersteller ( Standards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3T16:08:53Z</dcterms:created>
  <dc:creator>TriXteR</dc:creator>
  <dc:description/>
  <dc:language>en-US</dc:language>
  <cp:lastModifiedBy>Tom</cp:lastModifiedBy>
  <dcterms:modified xsi:type="dcterms:W3CDTF">2000-06-28T10:07:04Z</dcterms:modified>
  <cp:revision>86</cp:revision>
  <dc:subject/>
  <dc:title>Kein Folientitel</dc:title>
</cp:coreProperties>
</file>