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FBD-C08D-4EED-AEA0-62E18A12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C44-6B68-4D60-92D4-C55BFC57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E75-F736-481E-AC2B-7DF80AA6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1C8-67D6-4704-998F-B4117CDC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C21-F9AC-42D5-97CD-1E33DDD2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649-A35A-44F9-B240-A6E71520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09C-C66C-4F8B-B739-3241890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2B7-36F7-4C43-B1DB-DED0D44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8DA-D454-41AD-ADB6-2A67D8D0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AF5-A8A7-4CE0-A38A-A190313D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B61-8C80-40DA-91F0-CF2C039C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0C5-097C-462D-9D19-2AD3334A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3932-6AA4-45A8-89EC-E4BD64C9D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haltsübersi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tehungsgeschichte der living system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tposition der living system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bau der Kerntechnologie 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nutzung der Java-Technologie ‚Reflecting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urteilung des Praxisseme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tstehungsgeschich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gründet 1996 in VS-Vil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fangs nur wenige Mitarbeiter (einige Selbständi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s ende 1999 nur etwa 70 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it ende 2000 ca. 320 Mitarbeiter aus 29 N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 Geschäftsstellen (Donaueschingen, Atlanta, Boston, London, Sao Paulo, Singapur, Toronto, Timisa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t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tweit eine der führenden Unternehmen in agentenbasierter Tec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dukt ‚living markets‘ vielseitig einsetzbar (B2B, B2C, C2B, C2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Plattform für a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chiedlichste 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wicklung des Öko-System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rntechnologie 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esignLars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8580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rntechnologie 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WorkflowAgents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9053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Java-Technologie Refle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WorkflowInterprete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291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Java-Technologie Refle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matisches registrieren von 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matisches generieren vom ‚subject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prüfung der Übergabe- und Rückgabe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iffskontro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matisches ausführen der 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4:06:05Z</dcterms:created>
  <dc:creator>Alex</dc:creator>
  <dc:description/>
  <dc:language>en-US</dc:language>
  <cp:lastModifiedBy>Alex</cp:lastModifiedBy>
  <dcterms:modified xsi:type="dcterms:W3CDTF">2001-03-17T14:19:16Z</dcterms:modified>
  <cp:revision>1</cp:revision>
  <dc:subject/>
  <dc:title>Inhaltsübersicht</dc:title>
</cp:coreProperties>
</file>