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240"/>
            <a:ext cx="3071880" cy="519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4014360" y="-3240"/>
            <a:ext cx="3071880" cy="519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782640" y="774360"/>
            <a:ext cx="5526000" cy="382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9707400"/>
            <a:ext cx="3071880" cy="517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4014360" y="9707400"/>
            <a:ext cx="3071880" cy="517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3E63352-6C19-44C4-B9E6-3D59876BABA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nd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777960" y="771480"/>
            <a:ext cx="5530680" cy="3828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47520" y="4857480"/>
            <a:ext cx="5190840" cy="4599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t: 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8080" y="228600"/>
            <a:ext cx="9469440" cy="6400800"/>
            <a:chOff x="208080" y="228600"/>
            <a:chExt cx="9469440" cy="6400800"/>
          </a:xfrm>
        </p:grpSpPr>
        <p:sp>
          <p:nvSpPr>
            <p:cNvPr id="1" name=""/>
            <p:cNvSpPr/>
            <p:nvPr/>
          </p:nvSpPr>
          <p:spPr>
            <a:xfrm>
              <a:off x="208080" y="914400"/>
              <a:ext cx="9469440" cy="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228600"/>
              <a:ext cx="0" cy="640080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390240" y="609480"/>
              <a:ext cx="609480" cy="618480"/>
              <a:chOff x="390240" y="609480"/>
              <a:chExt cx="609480" cy="618480"/>
            </a:xfrm>
          </p:grpSpPr>
          <p:sp>
            <p:nvSpPr>
              <p:cNvPr id="4" name=""/>
              <p:cNvSpPr/>
              <p:nvPr/>
            </p:nvSpPr>
            <p:spPr>
              <a:xfrm>
                <a:off x="390600" y="619200"/>
                <a:ext cx="60876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" y="10519"/>
                    </a:moveTo>
                    <a:arcTo wR="10800" hR="10800" stAng="-10710495" swAng="5292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" y="10519"/>
                    </a:moveTo>
                    <a:arcTo wR="10800" hR="10800" stAng="-10710495" swAng="5292590"/>
                  </a:path>
                </a:pathLst>
              </a:custGeom>
              <a:noFill/>
              <a:ln cap="rnd" w="507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0600" y="609480"/>
                <a:ext cx="608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0800000">
                <a:off x="390240" y="609480"/>
                <a:ext cx="609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"/>
          <p:cNvSpPr/>
          <p:nvPr/>
        </p:nvSpPr>
        <p:spPr>
          <a:xfrm rot="16200000">
            <a:off x="264600" y="6224040"/>
            <a:ext cx="32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6553080"/>
            <a:ext cx="88390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16200"/>
                <a:tab algn="r" pos="85726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ndreas Schlenk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Alexander Schneider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Marc Löffler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fld id="{BAC29AF8-4562-441D-84D8-09EE6E612D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H-Furtwangen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Computer Networking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Pervasive Computing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Ÿ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SS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4952880"/>
            <a:ext cx="243828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dreas Schle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N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ndreas.Schlenk@gf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952880"/>
            <a:ext cx="35049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lexander Schne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N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lexander.Schneider@living-system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5046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Pervasive Compu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5760" y="1447920"/>
            <a:ext cx="55296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Security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und Ethi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952880"/>
            <a:ext cx="289548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c Löff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N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arc.Loeffler@living-system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30481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Datenschut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Der gläserne Bü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Zentrale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Ganzheitliche Überwa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Keine praktischen Kontrollmög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135000" y="5791320"/>
            <a:ext cx="109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30481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Datenschut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Der gläserne K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User-/Kunden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Speicherung persönlicher D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Datenha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Informationsfl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ahoma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Keine praktischen Kontrollmög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35000" y="5791320"/>
            <a:ext cx="109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226044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Ausw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ffff"/>
                </a:solidFill>
                <a:latin typeface="Tahoma"/>
              </a:rPr>
              <a:t>Zugriffs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Filter / B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Pro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Spam-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Caller-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Anony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35000" y="5791320"/>
            <a:ext cx="109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226044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Ausw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ffff"/>
                </a:solidFill>
                <a:latin typeface="Tahoma"/>
              </a:rPr>
              <a:t>Zugriffs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Kanal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Prio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342720">
              <a:lnSpc>
                <a:spcPct val="100000"/>
              </a:lnSpc>
              <a:spcBef>
                <a:spcPts val="224"/>
              </a:spcBef>
              <a:buClr>
                <a:srgbClr val="99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ffff"/>
                </a:solidFill>
                <a:latin typeface="Tahoma"/>
              </a:rPr>
              <a:t>Mehrere Emailadre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Redu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342720">
              <a:lnSpc>
                <a:spcPct val="100000"/>
              </a:lnSpc>
              <a:spcBef>
                <a:spcPts val="224"/>
              </a:spcBef>
              <a:buClr>
                <a:srgbClr val="99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ffff"/>
                </a:solidFill>
                <a:latin typeface="Tahoma"/>
              </a:rPr>
              <a:t>Dienste „nicht“ nu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Krypt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Vertraulichk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Authentiz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2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Integr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135000" y="5791320"/>
            <a:ext cx="109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33066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Kompromi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99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-135000" y="5791320"/>
            <a:ext cx="109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096920"/>
          <a:ext cx="891540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96920"/>
                    <a:ext cx="89154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33066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Kompromi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Preisgabe persönlicher 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Service als Gegen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Einfache Handha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Effektive Werk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Bequemlich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Keine „nervigen“ Passwö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135000" y="5791320"/>
            <a:ext cx="109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4240" y="228600"/>
            <a:ext cx="449424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tand he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Informationsmenge kaum noch beherrsch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Technische Hilfsmittel in 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Derzeitige Technik überfordert Anwender 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Welche Techniken bringt die Zukun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Umfassende Medienkompetenz notwen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27432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56400" indent="-35640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•"/>
              <a:tabLst>
                <a:tab algn="r" pos="848196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Enfopol</a:t>
            </a: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www.heise.de/newsticker/data/fr-26.06.01-000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www.heise.de/tp/deutsch/special/e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www.heise.de/tp/deutsch/special/enfo/7709/1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www.heise.de/tp/deutsch/special/enfo/7968/1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cryptome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•"/>
              <a:tabLst>
                <a:tab algn="r" pos="848196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Echelon</a:t>
            </a: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www.heise.de/tp/deutsch/special/ech/7795/1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www.heise.de/tp/deutsch/special/ech/7813/1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20000"/>
              </a:lnSpc>
              <a:spcBef>
                <a:spcPts val="499"/>
              </a:spcBef>
              <a:buClr>
                <a:srgbClr val="99ffff"/>
              </a:buClr>
              <a:buFont typeface="Tahoma"/>
              <a:buChar char="•"/>
              <a:tabLst>
                <a:tab algn="r" pos="848196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TKÜV</a:t>
            </a:r>
            <a:r>
              <a:rPr b="1" lang="de-DE" sz="2000" spc="-1" strike="noStrike">
                <a:solidFill>
                  <a:srgbClr val="99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r" pos="848196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99ffff"/>
                </a:solidFill>
                <a:latin typeface="Courier New"/>
              </a:rPr>
              <a:t>http://www.bmwi.de/Homepage/download/telekommunikation_post/TKUEV-Entwurf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19080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infüh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Datenschu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Kriminelle In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Datenschu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Ausw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Komprom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Aus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27241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Definitio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Allgem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Aus „Pervasive“-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Definition Eth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Allgem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Aus „Pervasive“-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4240" y="228600"/>
            <a:ext cx="20685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Daten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Kriminelle Inh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Mobilitä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30481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Datenschut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ahoma"/>
              </a:rPr>
              <a:t>Privatber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Intere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tand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Intimitä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Politische Gesin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Persönliche Konta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404280" y="5518080"/>
            <a:ext cx="1632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304812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Datenschut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ahoma"/>
              </a:rPr>
              <a:t>Unternehmensber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trateg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Entwickl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Pro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Know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49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Betriebswirtschaftlich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404280" y="5518080"/>
            <a:ext cx="1632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83880" y="228600"/>
            <a:ext cx="43369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Kriminelle Inhal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(Organisierte) Kriminalitä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Missbrauch der 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Vertriebskanal (Raubkop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Illegale Inh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Nationale Rege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Jugendschu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Strafverfol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ahoma"/>
              </a:rPr>
              <a:t>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404280" y="5518080"/>
            <a:ext cx="1632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84240" y="228600"/>
            <a:ext cx="223200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Mobilitä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ffff"/>
                </a:solidFill>
                <a:latin typeface="Tahoma"/>
              </a:rPr>
              <a:t>Besonderh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Geringere Rechen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Reduzierte User-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ffff"/>
                </a:solidFill>
                <a:latin typeface="Tahoma"/>
              </a:rPr>
              <a:t>Mobiler Datenzu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Drahtlose Kommun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Fremde Infra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ffff"/>
                </a:solidFill>
                <a:latin typeface="Tahoma"/>
              </a:rPr>
              <a:t>Lokationsbestimm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ffff"/>
                </a:solidFill>
                <a:latin typeface="Tahoma"/>
              </a:rPr>
              <a:t>Spezielle Angriffsmöglichk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Funksignale sni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300"/>
              </a:spcBef>
              <a:buClr>
                <a:srgbClr val="99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99ffff"/>
                </a:solidFill>
                <a:latin typeface="Tahoma"/>
              </a:rPr>
              <a:t>Hinschau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404280" y="5518080"/>
            <a:ext cx="1632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4240" y="228600"/>
            <a:ext cx="136224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ff"/>
                </a:solidFill>
                <a:latin typeface="Tahoma"/>
              </a:rPr>
              <a:t>Eth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Datenschu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Ausw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99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ahoma"/>
              </a:rPr>
              <a:t>Kompromi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686800" y="38088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Secur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ahoma"/>
              </a:rPr>
              <a:t>und Eth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12:31:17Z</dcterms:created>
  <dc:creator>Gast</dc:creator>
  <dc:description/>
  <dc:language>en-US</dc:language>
  <cp:lastModifiedBy>Andreas Schlenk</cp:lastModifiedBy>
  <cp:lastPrinted>2000-07-10T08:46:00Z</cp:lastPrinted>
  <dcterms:modified xsi:type="dcterms:W3CDTF">2001-06-28T22:17:47Z</dcterms:modified>
  <cp:revision>384</cp:revision>
  <dc:subject/>
  <dc:title>Kein Folientitel</dc:title>
</cp:coreProperties>
</file>