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240"/>
            <a:ext cx="3071880" cy="519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4014360" y="-3240"/>
            <a:ext cx="3071880" cy="519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782640" y="774360"/>
            <a:ext cx="5526000" cy="382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9707400"/>
            <a:ext cx="3071880" cy="517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014360" y="9707400"/>
            <a:ext cx="3071880" cy="517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C1BC4D6-5C54-4293-A8BA-BAF741DFAC1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gangsdaten erfass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hebungsbö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achkentnisse: C, C++, Java, XML, XSL, OS, SQL, Datenbanken, Netz,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mdspra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uverlässig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ffenh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denorient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bständig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heitliche Schnittstellen zu bestehenden Datenquellen (ERP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Geschäftsprozesse integrier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 sehr detailliert defin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utzen von Dokumenten über bestehende Pro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spräche mit anderen Projektlei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ahl der richtigen Teammitglieder über da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hr teure Hardware nötig, Datensicherung, Redundanz, schnelle Maschinen, Netzredunda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hr teure SW, viele Client-Lizenzen für Zugr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schulungen zeitaufwendig und te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tzung des Systems muß von allen Mitarbeitern akzeptier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meinsame Nutzung von sich Überschneidenden Technologien, Ressourcen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nn System integriert, können schon vorhandene Sachen in neue Projekte integriert werden --&gt; enorme Zeitersparnis und Kostenreduz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ino-Eff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 länger solch ein System eingesetzt wird desto mehr zahlt es sich 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t sich ein System erst einmal amortisiert, steigert sich immer mehr die Kostenreduz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 wird schneller und besser als and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=&gt; gesteigerte Wertschöp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elfältige Datenqu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handene Quellen abhängig von jeder einzelnen Fi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ede Firma hat andere Voraussetzungen und Anford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nvolles Merging aller Daten in eine Knowledg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ell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P-System: Verwaltung von Ressourcen (Mitarbeiter, Masch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ranet: Informationen über eigene Projekte (Projektabschluß, Projektdefinition, eingesetzte Technologi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et: Zugriff auf externe Ressourcen, nutzen von Online-Systemen, wie zusammenstellen von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MS: Datenbank übergreifende Suchen und kombinieren mehrerer Datenban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cht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thema: vorhandene Projekte, Projektmitar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inhalte: Inhalte übertragbar auf andere Pro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informationen: Auftraggeber, Finanzvolu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llen &amp; Aufgaben: aufgaben der Mitarbeiter, Ansprech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kills &amp; Erfahrungen: welches Wissen und welche Erfahrungen haben die Mitar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ergebnisse: wie wurde Projekt abgeschlossen, gut und schlecht gelauf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elfältige Datenqu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elfältige Verwendung und Verarbeitung der 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ugriff mit Archiv-Systemen, Browser, Mail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elfältige Datentypen: Text, Dokumente, Multimedia, Grafiken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ugriff sicher machen --&gt; Authentifizierung, Verschlüsselung, Zugriffssteuerung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8080" y="228600"/>
            <a:ext cx="9469440" cy="6400800"/>
            <a:chOff x="208080" y="228600"/>
            <a:chExt cx="9469440" cy="6400800"/>
          </a:xfrm>
        </p:grpSpPr>
        <p:sp>
          <p:nvSpPr>
            <p:cNvPr id="1" name=""/>
            <p:cNvSpPr/>
            <p:nvPr/>
          </p:nvSpPr>
          <p:spPr>
            <a:xfrm>
              <a:off x="208080" y="914400"/>
              <a:ext cx="9469440" cy="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228600"/>
              <a:ext cx="0" cy="640080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0240" y="609480"/>
              <a:ext cx="609480" cy="618480"/>
              <a:chOff x="390240" y="609480"/>
              <a:chExt cx="609480" cy="618480"/>
            </a:xfrm>
          </p:grpSpPr>
          <p:sp>
            <p:nvSpPr>
              <p:cNvPr id="4" name=""/>
              <p:cNvSpPr/>
              <p:nvPr/>
            </p:nvSpPr>
            <p:spPr>
              <a:xfrm>
                <a:off x="390600" y="619200"/>
                <a:ext cx="60876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" y="10519"/>
                    </a:moveTo>
                    <a:arcTo wR="10800" hR="10800" stAng="-10710495" swAng="529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" y="10519"/>
                    </a:moveTo>
                    <a:arcTo wR="10800" hR="10800" stAng="-10710495" swAng="529259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0600" y="609480"/>
                <a:ext cx="608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0800000">
                <a:off x="390240" y="609480"/>
                <a:ext cx="609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"/>
          <p:cNvSpPr/>
          <p:nvPr/>
        </p:nvSpPr>
        <p:spPr>
          <a:xfrm rot="16200000">
            <a:off x="264600" y="622404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6553080"/>
            <a:ext cx="883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664000"/>
                <a:tab algn="r" pos="857268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Andreas Schlenk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Alexander Schneider 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	</a:t>
            </a:r>
            <a:fld id="{D25A04F7-FEEF-418E-8EA5-C3D551F2CF84}" type="slidenum">
              <a:rPr b="0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FH-Furtwangen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Computer Networking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eBusiness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SS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2200" y="990720"/>
            <a:ext cx="6379920" cy="5638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4952880"/>
            <a:ext cx="388620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reas Schle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reas.Schlenk@g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952880"/>
            <a:ext cx="502920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exander Schn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exander.Schneider@living-system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452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ffff"/>
                </a:solidFill>
                <a:latin typeface="Tahoma"/>
              </a:rPr>
              <a:t>Knowledge Management (K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70640" y="1066680"/>
            <a:ext cx="83566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Wenn wir nu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wüsten was wi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alles wissen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6355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Integration von KM-Syste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Eingangsdaten erf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Erhebungsbö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Mitarbeitergespr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bestehende Daten üb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Pflege der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In Geschäftsprozesse integ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Eingabe von Projektdefini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automatische Generierung von Dokum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zusammenstellen der Teammitgli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0860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Risiken und Potent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hohe Hardware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hohe Software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Personalschu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zeitaufwendige Ein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Akzeptanz bei den Mitarbei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Vor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erhöhte Transpa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auf Dauer Reduzierung des Zeitaufw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3355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Domino Eff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335520">
              <a:lnSpc>
                <a:spcPct val="120000"/>
              </a:lnSpc>
              <a:spcBef>
                <a:spcPts val="451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ahoma"/>
              </a:rPr>
              <a:t>Kostenreduz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335520">
              <a:lnSpc>
                <a:spcPct val="120000"/>
              </a:lnSpc>
              <a:spcBef>
                <a:spcPts val="451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ahoma"/>
              </a:rPr>
              <a:t>mehr Kundenzufriede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335520">
              <a:lnSpc>
                <a:spcPct val="120000"/>
              </a:lnSpc>
              <a:spcBef>
                <a:spcPts val="451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ahoma"/>
              </a:rPr>
              <a:t>erhöhter Wettbewerbsvort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21654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Produk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99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1003320"/>
            <a:ext cx="8914680" cy="4849920"/>
            <a:chOff x="762120" y="1003320"/>
            <a:chExt cx="8914680" cy="4849920"/>
          </a:xfrm>
        </p:grpSpPr>
        <p:grpSp>
          <p:nvGrpSpPr>
            <p:cNvPr id="98" name=""/>
            <p:cNvGrpSpPr/>
            <p:nvPr/>
          </p:nvGrpSpPr>
          <p:grpSpPr>
            <a:xfrm>
              <a:off x="769320" y="1006560"/>
              <a:ext cx="8898120" cy="4843440"/>
              <a:chOff x="769320" y="1006560"/>
              <a:chExt cx="8898120" cy="48434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9320" y="1006560"/>
                <a:ext cx="4867920" cy="639720"/>
                <a:chOff x="769320" y="1006560"/>
                <a:chExt cx="4867920" cy="6397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9320" y="1006560"/>
                  <a:ext cx="4867920" cy="6397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769320" y="1006560"/>
                  <a:ext cx="4867200" cy="639720"/>
                  <a:chOff x="769320" y="1006560"/>
                  <a:chExt cx="4867200" cy="639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872280" y="1006560"/>
                    <a:ext cx="4661280" cy="6397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  <a:ea typeface="Arial"/>
                      </a:rPr>
                      <a:t>Produk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69320" y="1006560"/>
                    <a:ext cx="48672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" name=""/>
              <p:cNvGrpSpPr/>
              <p:nvPr/>
            </p:nvGrpSpPr>
            <p:grpSpPr>
              <a:xfrm>
                <a:off x="5637960" y="1006560"/>
                <a:ext cx="4029480" cy="639720"/>
                <a:chOff x="5637960" y="1006560"/>
                <a:chExt cx="4029480" cy="639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637960" y="1006560"/>
                  <a:ext cx="4029480" cy="6397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5637960" y="1006560"/>
                  <a:ext cx="4028760" cy="639720"/>
                  <a:chOff x="5637960" y="1006560"/>
                  <a:chExt cx="4028760" cy="6397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5740920" y="1006560"/>
                    <a:ext cx="3822840" cy="6397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  <a:ea typeface="Arial"/>
                      </a:rPr>
                      <a:t>Herstell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37960" y="1006560"/>
                    <a:ext cx="402876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769320" y="1646280"/>
                <a:ext cx="4867920" cy="822240"/>
                <a:chOff x="769320" y="1646280"/>
                <a:chExt cx="4867920" cy="8222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72280" y="1646280"/>
                  <a:ext cx="4662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Hyperwave Information </a:t>
                  </a: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Serv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9320" y="1646280"/>
                  <a:ext cx="4867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37960" y="1646280"/>
                <a:ext cx="4029480" cy="822240"/>
                <a:chOff x="5637960" y="1646280"/>
                <a:chExt cx="4029480" cy="822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740920" y="1646280"/>
                  <a:ext cx="38235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Hyperwa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637960" y="1646280"/>
                  <a:ext cx="40294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9320" y="2468520"/>
                <a:ext cx="4867920" cy="639720"/>
                <a:chOff x="769320" y="2468520"/>
                <a:chExt cx="486792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72280" y="2468520"/>
                  <a:ext cx="4662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Kn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9320" y="2468520"/>
                  <a:ext cx="4867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637960" y="2468520"/>
                <a:ext cx="4029480" cy="639720"/>
                <a:chOff x="5637960" y="2468520"/>
                <a:chExt cx="402948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740920" y="2468520"/>
                  <a:ext cx="3823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Dan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637960" y="2468520"/>
                  <a:ext cx="4029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9320" y="3108240"/>
                <a:ext cx="4867920" cy="640080"/>
                <a:chOff x="769320" y="3108240"/>
                <a:chExt cx="4867920" cy="640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72280" y="3108240"/>
                  <a:ext cx="4662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Lars Knowledge Mis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9320" y="3108240"/>
                  <a:ext cx="4867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637960" y="3108240"/>
                <a:ext cx="4029480" cy="640080"/>
                <a:chOff x="5637960" y="3108240"/>
                <a:chExt cx="4029480" cy="640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40920" y="3108240"/>
                  <a:ext cx="38235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La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637960" y="3108240"/>
                  <a:ext cx="40294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9320" y="3748320"/>
                <a:ext cx="4867920" cy="639720"/>
                <a:chOff x="769320" y="3748320"/>
                <a:chExt cx="486792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72280" y="3748320"/>
                  <a:ext cx="4662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Livelin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9320" y="3748320"/>
                  <a:ext cx="4867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637960" y="3748320"/>
                <a:ext cx="4029480" cy="639720"/>
                <a:chOff x="5637960" y="3748320"/>
                <a:chExt cx="402948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740920" y="3748320"/>
                  <a:ext cx="3823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Open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7960" y="3748320"/>
                  <a:ext cx="4029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69320" y="4388040"/>
                <a:ext cx="4867920" cy="639720"/>
                <a:chOff x="769320" y="4388040"/>
                <a:chExt cx="486792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72280" y="4388040"/>
                  <a:ext cx="4662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One to One Knowled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69320" y="4388040"/>
                  <a:ext cx="4867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637960" y="4388040"/>
                <a:ext cx="4029480" cy="639720"/>
                <a:chOff x="5637960" y="4388040"/>
                <a:chExt cx="402948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740920" y="4388040"/>
                  <a:ext cx="3823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Broadvi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637960" y="4388040"/>
                  <a:ext cx="4029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69320" y="5027760"/>
                <a:ext cx="4867920" cy="822240"/>
                <a:chOff x="769320" y="5027760"/>
                <a:chExt cx="4867920" cy="8222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72280" y="5027760"/>
                  <a:ext cx="4662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eRoo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9320" y="5027760"/>
                  <a:ext cx="4867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637960" y="5027760"/>
                <a:ext cx="4029480" cy="822240"/>
                <a:chOff x="5637960" y="5027760"/>
                <a:chExt cx="4029480" cy="822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40920" y="5027760"/>
                  <a:ext cx="38235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99ffff"/>
                      </a:solidFill>
                      <a:latin typeface="Tahoma"/>
                      <a:ea typeface="Arial"/>
                    </a:rPr>
                    <a:t>Interactive Technolog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37960" y="5027760"/>
                  <a:ext cx="40294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762120" y="1003320"/>
              <a:ext cx="8914680" cy="48499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210636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Derzeitig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Stand der Tech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Stand aus Sicht der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Theorie und Pr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Was bringt die Zukun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neue Technolog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Organisations- und Managementkonzep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27432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Allgemeine Informationen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http://www.km-forum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technische Hintergründe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http://www.kmworld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RCFs und Whitepapers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http://www.ckm.ucsf.edu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http://www.gft.de/library/whitepapers/eQuest_IP022000dt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Diplomarbeit von Jochen Kayser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Thema „Knowledge Management Systeme - Funktionalität und Architektu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	</a:t>
            </a: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Fachhochschule Furtwangen - Wirtschaftsinformatik - 28.09.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19080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in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ienstleistungs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insatzszena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KM-Strukt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Integration von KM-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Risiken und Potent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Produ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2724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Bedeutung von Wissen für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5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Wissensspek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elches Leistungsspektrum hat mein Unternehm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elche Erfahrungen und Skills haben meine Mitarbei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elche Mitarbeiter haben tragende Funktion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ie ist der Informationsbedarf meiner Mitarbei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ie können Mitarbeiter diese Informationen nutz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ie sind Zugriffsrechte/Rollen vertei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Wie können Informationen zentral, einheitlich und zeitnah erfass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2724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lassifizierung von Informationsqu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09760" y="1600200"/>
          <a:ext cx="528480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1600200"/>
                    <a:ext cx="52848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564516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Dienstleistungsspek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Consulting und Training zum Thema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Planung und Design spezifischer KM-Lö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Konkrete Realisi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Integrations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Wartung- und Pflegedi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38923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Einsatzszenar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Review-Datenbanken von Großproje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Skill- und Erfahrungs-Datenb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Datenbank mit wiederverwendbaren Projekt-Prozessen und -th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Wissensbibliothek über technisches Know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Kombination aus den obigen Pun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335916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KM-Struktu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Quellen und S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KM-Struktur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934320" cy="48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335916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KM-Struktu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Qu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Quellen abhängig von Anforderung und 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Enterprise Ressource Plann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Internet /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Datenbank Manage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S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ojekt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ojektinha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ojekt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Rollen &amp;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Skills &amp; erfah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ojektergeb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335916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Arial"/>
              </a:rPr>
              <a:t>KM-Struktu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rchitektur und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533520"/>
            <a:ext cx="160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ffff"/>
                </a:solidFill>
                <a:latin typeface="Tahoma"/>
              </a:rPr>
              <a:t>KM-Consul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KM-Architektur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8487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12:31:17Z</dcterms:created>
  <dc:creator>Gast</dc:creator>
  <dc:description/>
  <dc:language>en-US</dc:language>
  <cp:lastModifiedBy>Alex</cp:lastModifiedBy>
  <cp:lastPrinted>2000-07-10T08:46:00Z</cp:lastPrinted>
  <dcterms:modified xsi:type="dcterms:W3CDTF">2001-06-16T18:10:10Z</dcterms:modified>
  <cp:revision>352</cp:revision>
  <dc:subject/>
  <dc:title>Kein Folientitel</dc:title>
</cp:coreProperties>
</file>