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BBE0-D76F-44FC-B55D-847221AD72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lex + 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aumseg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3 Ersa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55° Neigung gegenüber Äquatorebe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1 werden benöti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14.000 Stundenkilome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12 Stunden für Umkreis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4 Stunden für selbe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tomuhren in 3 Millionen Jahren eine Sekunde Abweich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ine Millionstel Sekunde Abweichung ergibt 30 Kilometer Feh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Zukünftig: Wasserstoff-Maser Uhren in 7 Millionen Jahren eine Sekunde Abweich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ichtbarkeit von mindestens 4 Satelli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ntrollseg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 der Hand der US Arm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Master-Control Station in Colorado Sp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vier weitere Statio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Vorausberechnung der Satellitenbah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Überwachung der Uh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Übermittlung der Navigationsda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nutzerseg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Erfassung und Verarbeitung der Da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bestehend aus Antenne, Vorverstärker, Hochfrequenzeinheit, Mikroprozessor, Datenspeicher, Stromversorg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keine Uhr, da zu ungenau 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Zeitfehler lösen durch vierten Satelli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Nachbildung des C/A-Codes bzw. P-Codes 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 Informationen über Codeverzögerung und Dopplerverschieb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avstar GPS = Navig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atellit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Timing and Ranging Global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Positioning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/A-Code = </a:t>
            </a:r>
            <a:r>
              <a:rPr b="0" lang="en-GB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Coarse/Acquisition</a:t>
            </a:r>
            <a:r>
              <a:rPr b="0" lang="de-DE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-Code = Precision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ormationen über Systemzeit, Satellitenposition, Feh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2 nur für militärische Zwecke (verschlüsse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n und Empfänger werden miteinander synchronisi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Kugeln für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Schnittpunkt, einer davon im Wel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Satelliten für 3d-Bestimm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erter Satellit für Zeitsynchro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schwindigkeit durch Auswertung der Dopplerverschieb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DB7-A231-4DBA-A423-366D0B23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529-A873-4936-AC9C-74AA50E3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1AD-72EC-4602-A170-ACC7E6D5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53C-9C9A-4D4F-9A61-352D3BA0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C8B-9EFF-4835-AE22-6816B141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D33-7CD0-45C6-88AB-82C0FD91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F1C-5532-458F-85E3-BE10F59C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EB6-A10D-4BC7-9F43-E2626ED4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14A-38CB-42F8-AD44-F4F43107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926-B21D-4BBE-BE57-9122147B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38A-8228-42D3-B2A7-FBFB5B07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2806-C872-4E8E-8DBC-9690686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B665-1EAF-4506-88E9-D68F206614C0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FA19-E480-4DD3-9464-427F0DC21B0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ffff"/>
                </a:solidFill>
                <a:latin typeface="Times New Roman"/>
              </a:rPr>
              <a:t>GP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7160" y="6019920"/>
            <a:ext cx="318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Alexander Schneider 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N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lexander.Schneider@living-system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84840" y="6019920"/>
            <a:ext cx="26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Marc Löffler 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N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Marc.Loeffler@living-system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ie findet GPS die Posi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560" y="21333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mpfänger generiert gleichen Code wie Satel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tfernung zum Satellit: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Entfernung = Zeitdifferenz x Lichtgeschwind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396252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BA6-DB47-4EFA-A615-A9B59042D7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CE97F-770E-4773-B8B1-2B5F0F21E8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Fehlerquell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43040" y="144792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bsichtliche Verschlechterung der Ephemer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volle Systemgenauigkeit für authorisierte Nut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elective Availability wurde am 01.05.00 deaktiv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hren der Satelliten und Empfänger nicht synch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ehrwegeausbreitung (Multi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73392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E07-71F1-423F-9F92-F6EED26C85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7EAF6-496B-4CAC-BEFF-874B7E95B5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Fehlerquell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66720" y="2923920"/>
            <a:ext cx="4419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atellitengeometrie = PDOP-W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ungünstige Verteilung der Satelliten am Horizont ist Fehlerqu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333520" cy="1752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886200"/>
            <a:ext cx="23335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EF4-9CFC-4EB3-B3C5-21431C4A35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EB599-9773-44DA-A121-6CD9790539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Fehlerquell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66720" y="289548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onosphä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roposphä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1338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61F-9F40-45D3-9FE1-6D129CFE9B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89EB3-B8D7-47EE-A575-A3272D58CD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GPS in der Praxis - Beobachtungsverfah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erarbeitung der Daten in Echzeit (Real Time) oder nach Abschluss der Beobachtung (post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nzelpunktpositionierung oder Relativposition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tische Beobachtung oder in Bewe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nterscheidung nach Genauigkeitmerkmal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494-823A-452A-92E9-6C7108CE28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DC4D0-86AB-4682-8CF6-ED118BFBF6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ie benutzt man GP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Sie benötigen mindestens eine Person, ausgerüstet mit GPS Antenne und Empfäng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ie Anzahl der verwendeten Empfänger und Antennen richtet sich nach der Art des Meßverfahre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Grundsätzlich steigt mit höheren Genauigkeitsanforderungen der Preis der Ausrüstung und der Aufwand des Meßverfahrens. Das GPS Genauigkeitspotential reicht von 100 Metern bis in den Millimeter-Berei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Einzelner Empfänger in Bewegung: ± 100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Navigation mit differentiellen Korrekturen: 1 m - 5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Geodätische Meßverfahren: mm - cm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quipment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581280" cy="28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82F-98E0-4B97-91D0-2739EB6D8E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A69A3-4916-480D-862A-FC4D9B777F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o wird GPS eingesetz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3657600"/>
            <a:ext cx="2971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chif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lugze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hotogram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aschinensteu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navigation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715160" cy="1343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6200" y="16002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vig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023-2ADA-4317-AD21-190D6BFA3B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E13D2-2438-4DE0-8D1F-6D81F5A16A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o wird GPS eingesetz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2971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ezielte Bodenpro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ä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r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flü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Kontrolliertes Dü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9880" y="160020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ndwirtschaf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andwirt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4008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C1E-D8EA-4476-B6BB-6CA0F10090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ED55A-5097-4FE2-A4FF-10E99185CB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o wird GPS eingesetz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2819520"/>
            <a:ext cx="3581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renzvermess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opographische Ka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Überwachungsmess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ismische Kontrollmess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3760" y="16002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rmessu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nim2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anim4" descr=""/>
          <p:cNvPicPr/>
          <p:nvPr/>
        </p:nvPicPr>
        <p:blipFill>
          <a:blip r:embed="rId2"/>
          <a:stretch/>
        </p:blipFill>
        <p:spPr>
          <a:xfrm>
            <a:off x="990720" y="4724280"/>
            <a:ext cx="25146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03D-2AD6-4750-93F8-05797D4467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02182-0D38-4143-A397-6E975A880E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o wird GPS eingesetz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8840" y="2590920"/>
            <a:ext cx="2971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atürliche Ressour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igentumssich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ertermitt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ädtepla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orstbe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080" y="16002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gisd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240012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057-0C3D-4F05-BE22-1FC65523AD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420C2-828A-4768-A5FB-9A2347DF2A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Inhaltsübersic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Geschichte der Nav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as ist GP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e funktioniert GP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e findet GPS die Posit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ehlerqu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e benutzt man GP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o wird GPS eingesetz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FEA-1FED-4065-91F8-0B29AD7743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3CAC2-BF4D-435B-AC7C-2887DD32D3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Aus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garantierter Betrieb bis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2002 nur noch 1,4 % militärische Nutz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Strassenverkehr größter Mar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Initiativen für alternativen zu G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GLONASS – russ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GNSS, GNSS 2 – europäische Antw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102B-870C-4A09-9139-81FA0946D4D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F71C5-7D44-481D-A895-BD8FFD11AB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Aus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finden verunglückter Mens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überwachen der Kinder über Mobilf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ufenthalt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Vermittlung der Gesprä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listen in“ – 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</a:rPr>
              <a:t>Alarmierung der Poliz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Verdana"/>
              </a:rPr>
              <a:t>neue Trägerphasen L4, L5 zur genaueren Positionsbestimmung im zivil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252-C558-4501-83B2-9B7952F083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AC350-4F7E-4867-A657-29544D0330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Verdana"/>
              </a:rPr>
              <a:t>Fragen</a:t>
            </a:r>
            <a:r>
              <a:rPr b="0" lang="en-GB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4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Navigation – Gestern bis He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agenhafte Polynesische Navigationskünst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reitenbestimm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Längenbestimmung gegen Ende des 18Jh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Harrison Nr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akobss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k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ex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unkpeilung im 2.W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ransit-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E78-01D3-4B7B-AFBC-BF611A6499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E477D-9937-403A-9425-5C92DC86A2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as ist GP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Gps_config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39748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DE2-3D30-45B6-9140-29B8BBC96F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6B2BC-1B5E-432F-A983-38EE938B69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as ist GP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as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Verdana"/>
              </a:rPr>
              <a:t>G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obale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Verdana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sitionierungs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Verdana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ystem besteht aus 24 Satelliten, die sich in 6 verschiedenen Umlaufbahnen um die Erde bewe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e Umlaufbahnen haben eine Neigung von 55° gegenüber der Äquatorebe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 einer Höhe von 20.000 km umlaufen die GPS Satelliten die Erde einmal in 12 Stu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it 1973 wird das GPS vom U.S. Verteidigungministerium betrie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Zur Überwachung des GPS existieren 5 Kontrollstationen, wobei sich die Hauptkontrollstation in Colorado Springs befin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B8D-B212-4D4C-8E16-C8E522D8A7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F38FB-FE85-4DF1-8AD0-5C43EBC362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as ist GP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Kontroll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6114960" cy="31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91F-8E2D-4637-AD70-516AA28419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33C44-BD0D-421E-8E13-F302DEC66A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ie funktioniert GP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24 Satelliten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in 20.200 km Höhe in 6 Behnebe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aster-Control Station in Colorado Spr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4 weitere Kontrollst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mpfänger ohne U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tenne, Mikroprozessor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543120" cy="378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584-A608-4E6A-A5F3-D6CD00F2BC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A8362-E0FB-48E8-A7D0-968693A063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ie funktioniert GP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atelliten senden einzigartige, vorhersagbare Sig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Betreiber speist den Satelliten voraussichtliche Position (Ephemeriden) ein und kontrolliert die GPS 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rägerphasen mit aufmodellierten C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1-Frequenz (1575,42 MHz) = 19,05 cm Wellenlä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C/A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P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räger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2-Frequenz (1227,60 MHz) = 24,45 cm Wellenlä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P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räger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DE2-8449-4735-8BC8-746AB982FA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95A01-62B8-48DF-81C2-45F796B710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Wie findet GPS die Posi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rechnung der 3D-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Verwendung der aufmodellierten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/A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288144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PS - Ausgewählte Kapitel der DÜ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86F-A493-4432-BFD5-8C468EC884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A9B4E-461B-4B21-AB78-A7B23D9DE6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12:39:56Z</dcterms:created>
  <dc:creator>living systems AG</dc:creator>
  <dc:description/>
  <dc:language>en-US</dc:language>
  <cp:lastModifiedBy>Alex</cp:lastModifiedBy>
  <dcterms:modified xsi:type="dcterms:W3CDTF">2002-01-21T07:44:19Z</dcterms:modified>
  <cp:revision>11</cp:revision>
  <dc:subject/>
  <dc:title>Was ist GPS ?</dc:title>
</cp:coreProperties>
</file>